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CD3-6C04-4CB2-A103-5F8DD8C3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ECD-6FCC-4943-9145-675D8F16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0EF-3384-46C4-85FC-195E1A80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AFF-59AE-46ED-96C7-711F2CD5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312-B8E1-4E49-B29A-0F206901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1C72-0FF8-421B-9559-93005F4E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0C39-02B1-4797-865B-BD578A63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7B5-1C18-4E4B-8380-DD877134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656-D249-4B15-AE10-60A637A1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214-5BF1-46DB-8B6A-435ED106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240-1A6C-46D1-9F87-7B8B55C8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66B-1ABE-4E85-9C19-88980F04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C252-8B4D-40BC-91CE-17069371F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the symbol for each element listed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590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371600"/>
            <a:ext cx="2590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160020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31624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7800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76380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452592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160020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231624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307800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376380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4525920"/>
            <a:ext cx="91440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4:58Z</dcterms:modified>
  <cp:revision>14</cp:revision>
  <dc:subject/>
  <dc:title>Slide 1</dc:title>
</cp:coreProperties>
</file>