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0DB-CA6C-498B-A7E1-CE574B5D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7C0-1412-4B98-A86C-311CDE7D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E80-FFBD-43BA-BED1-830AFFBC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ACF-03D2-467C-99C8-74A3CAFB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0F2-946A-4F53-B7EB-F84B4A8C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A06-1292-45E9-8F5E-233D9172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2F9-3F4E-494B-85DF-D46F5EDA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EBA-F045-41C9-9EA4-3CB75C81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CF5-F184-4085-AAA8-C987AC8B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C78-9635-4D9E-9A2C-2C27CABC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1A5-C248-4326-8ADD-6DF6CF7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55F-7AE7-49E4-9680-8A50B688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76FD-786E-4C1D-BFB2-93FEEFE5E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he symbol for each element listed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5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371600"/>
            <a:ext cx="25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16002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31624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780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7638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452592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16002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31624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30780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37638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452592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4:58Z</dcterms:modified>
  <cp:revision>14</cp:revision>
  <dc:subject/>
  <dc:title>Slide 1</dc:title>
</cp:coreProperties>
</file>