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614-2DCC-4574-A496-171D38F3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3FC-607F-4F96-830E-D3ED5603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B904-88DF-4516-BE01-9522D22E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04E-FB02-4B3B-B19D-84D7BC78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A53-11EA-4BDB-B30B-2047ACC2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471-A79A-4958-924F-2759C567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CD5-AEE3-4FD7-B415-5BBD7BBF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BF7-E897-49B9-AA1A-27DB6A17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5D0-0E2C-40AB-BEDB-1C23B0F8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02AF-1A4A-470C-A7FF-65B17FC3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B9A-30B4-4247-B90C-F8858E45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AD14-F810-4D90-8565-5C9D1AAC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F408-76C6-444A-8F68-8A501BD68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ame That Eleme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534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Element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395800">
            <a:off x="1066680" y="4876560"/>
            <a:ext cx="1027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566600">
            <a:off x="7162560" y="4835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727800">
            <a:off x="4309560" y="540972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727800">
            <a:off x="531360" y="57909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9944000">
            <a:off x="8228160" y="56386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420000">
            <a:off x="2895120" y="5643720"/>
            <a:ext cx="6876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410800">
            <a:off x="5562720" y="560664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5451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.Trimpe 2008        http://sciencespot.ne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symbol for each element listed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371600"/>
            <a:ext cx="2590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l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um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371600"/>
            <a:ext cx="2590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l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um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16002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31624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780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37638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452592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67480" y="16002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231624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30780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37638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452592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80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2:59:36Z</dcterms:created>
  <dc:creator>Tracy Trimpe</dc:creator>
  <dc:description/>
  <dc:language>en-US</dc:language>
  <cp:lastModifiedBy>Tracy Trimpe</cp:lastModifiedBy>
  <dcterms:modified xsi:type="dcterms:W3CDTF">2008-03-16T01:44:50Z</dcterms:modified>
  <cp:revision>13</cp:revision>
  <dc:subject/>
  <dc:title>Slide 1</dc:title>
</cp:coreProperties>
</file>