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132D-901D-472D-B52E-29AC435D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EC3A-E416-45BE-9E06-7246EBDF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B751-DAA4-4C5A-B0D2-8DE61A5A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1AB9-1E1D-4BDB-B050-BAD193317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98B1-4FE0-4588-A03C-3691E498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68A0-27B6-4687-A039-10403382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FBE4-C8EA-4E5E-907E-0179297C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B96B-0B80-4BE4-8719-789C6C77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5622-42CF-4388-B95C-228C5D24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9F0C-BD1E-4992-9603-3C7A0CAD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AC6C-E85E-4646-8209-953C41AF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8A86-E21E-4035-B7F5-5E284C9A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F5DA-B949-41DF-8D01-1D2AFDFB3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Name That Elemen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838080"/>
            <a:ext cx="853416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Element Challeng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 txBox="1"/>
          <p:nvPr/>
        </p:nvSpPr>
        <p:spPr>
          <a:xfrm rot="20395800">
            <a:off x="1066680" y="4876560"/>
            <a:ext cx="102708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1566600">
            <a:off x="7162560" y="4835520"/>
            <a:ext cx="838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727800">
            <a:off x="4309560" y="540972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727800">
            <a:off x="531360" y="579096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19944000">
            <a:off x="8228160" y="563868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8" name=""/>
          <p:cNvSpPr txBox="1"/>
          <p:nvPr/>
        </p:nvSpPr>
        <p:spPr>
          <a:xfrm rot="420000">
            <a:off x="2895120" y="5643720"/>
            <a:ext cx="68760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9" name=""/>
          <p:cNvSpPr txBox="1"/>
          <p:nvPr/>
        </p:nvSpPr>
        <p:spPr>
          <a:xfrm rot="20410800">
            <a:off x="5562720" y="560664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6545160"/>
            <a:ext cx="579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T.Trimpe 2008        http://sciencespot.net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380880"/>
            <a:ext cx="853416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the symbol for each element listed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371600"/>
            <a:ext cx="2590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h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371600"/>
            <a:ext cx="2590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lo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umi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ck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38080" y="1371600"/>
            <a:ext cx="2590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h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371600"/>
            <a:ext cx="2590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lo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umi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ck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1600200"/>
            <a:ext cx="9144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2316240"/>
            <a:ext cx="9144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078000"/>
            <a:ext cx="9144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3763800"/>
            <a:ext cx="9144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4525920"/>
            <a:ext cx="9144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67480" y="1600200"/>
            <a:ext cx="9144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67480" y="2316240"/>
            <a:ext cx="9144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3078000"/>
            <a:ext cx="9144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3763800"/>
            <a:ext cx="9144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467480" y="4525920"/>
            <a:ext cx="9144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3808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02:59:36Z</dcterms:created>
  <dc:creator>Tracy Trimpe</dc:creator>
  <dc:description/>
  <dc:language>en-US</dc:language>
  <cp:lastModifiedBy>Tracy Trimpe</cp:lastModifiedBy>
  <dcterms:modified xsi:type="dcterms:W3CDTF">2008-03-16T01:44:50Z</dcterms:modified>
  <cp:revision>13</cp:revision>
  <dc:subject/>
  <dc:title>Slide 1</dc:title>
</cp:coreProperties>
</file>