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32C5-224D-4A02-A99D-DE5A2FEC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19E-275D-43AC-BBF4-65EF63DD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E2D-BFFA-4E98-BF1C-6C39B64B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EFB1-D9C8-4A02-8237-FA841D1F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E22-D057-4C69-834E-CC609C4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13C-D0AD-474D-81B5-ACC50D7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2FA-B9B6-45FE-A1FC-DA5E8C89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5F6-96BB-4469-AAFC-0472522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D0A-C8D5-4D98-B9CC-AC806B65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698-7E11-4480-A31C-11C7674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2F3-4C34-4CE7-BDC1-9DDAF02D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25F-8104-4496-AC67-DEFA07F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07CE-5DCA-4017-954B-C37705DA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16002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31624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0780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76380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525920"/>
            <a:ext cx="24386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16002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31624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30780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76380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525920"/>
            <a:ext cx="2438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48Z</dcterms:modified>
  <cp:revision>28</cp:revision>
  <dc:subject/>
  <dc:title>Slide 1</dc:title>
</cp:coreProperties>
</file>