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B55-7DB2-47E0-9FB6-BE01FC13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F9A-F44B-4C54-9C5C-6A25DBA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B0E-5007-4E34-A683-0FA83BB8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A68-0DBB-4BBD-83F8-2BD8694D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714-E876-412E-BA6D-A2F7278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2F4-C764-40B0-829B-FC3A133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675-BC76-4CB7-AAB3-84E47F01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A83-0570-4F99-BF53-6D75663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3F0-7F10-47BD-8C1B-29BB5453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380-A02E-4D7D-B254-C6C84B3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1D0-69FF-4676-BCB3-C656DE1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A30-5735-43D4-B072-C8E012A8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A51F-6FA2-4F92-8804-D1020883A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16002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31624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0780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7638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52592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16002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31624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0780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7638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52592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48Z</dcterms:modified>
  <cp:revision>28</cp:revision>
  <dc:subject/>
  <dc:title>Slide 1</dc:title>
</cp:coreProperties>
</file>