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A22-DA52-43A7-8EA1-0B14A914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897-C764-4A89-812A-2F839000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850-11F2-4425-AD19-A5600160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72F-3BCF-4611-BADC-11B728F5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B3B-9F50-4CEB-937A-52BCADCA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C2A-147F-42FE-AC81-FA9D2CB9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E1A-C260-4808-9F2D-1300421D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01B-21C3-42DB-99B2-D315D6F9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682-8946-497D-97F0-CBEBFA49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28F-C300-48AA-8940-C62C089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0B0-C3F1-4428-BCD7-E67DD089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13F-17A7-4CAA-A4AE-42D20E25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DCBA-5B12-4B2C-927E-0C78CC95F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symbol for each element listed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446120"/>
            <a:ext cx="2590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46120"/>
            <a:ext cx="2590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446120"/>
            <a:ext cx="2590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446120"/>
            <a:ext cx="2590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4479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1636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9257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6115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437364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14479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21636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9257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36115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37364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4:41Z</dcterms:modified>
  <cp:revision>11</cp:revision>
  <dc:subject/>
  <dc:title>Slide 1</dc:title>
</cp:coreProperties>
</file>