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562-1092-4321-AC0A-4716E74A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D293-6840-4419-892B-DF30B5C2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0D5-2594-495E-BB41-27E56595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232-FA4F-4152-B53A-F07C8CCA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268B-E0FE-4DC9-9D0D-5E286999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E2D1-6367-4EA7-8C44-4E68CDE9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C68-8304-4ED4-92B0-DBB8FE1E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F5C-3BE9-4670-8D24-50A43E3B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596-A70B-4CCB-9F45-9825E810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5D2-B385-443F-ACF0-D88505CE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A21-CB45-49C9-BABD-18C0C3FA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290-2CCC-4646-8F60-5D612912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8AF5-A227-4F42-A7EA-39B686396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Name That Ele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838080"/>
            <a:ext cx="853416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Element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20395800">
            <a:off x="1066680" y="4876560"/>
            <a:ext cx="1027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566600">
            <a:off x="7162560" y="4835520"/>
            <a:ext cx="838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727800">
            <a:off x="4309560" y="540972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727800">
            <a:off x="531360" y="579096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9944000">
            <a:off x="8228160" y="5638680"/>
            <a:ext cx="457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420000">
            <a:off x="2895120" y="5643720"/>
            <a:ext cx="6876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410800">
            <a:off x="5562720" y="560664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65451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.Trimpe 2008        http://sciencespot.net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the symbol for each element listed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446120"/>
            <a:ext cx="25909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46120"/>
            <a:ext cx="25905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80880"/>
            <a:ext cx="853416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446120"/>
            <a:ext cx="25909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o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1446120"/>
            <a:ext cx="25905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144792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216360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92572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61152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437364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144792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86600" y="216360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292572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361152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86600" y="4373640"/>
            <a:ext cx="9144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2:59:36Z</dcterms:created>
  <dc:creator>Tracy Trimpe</dc:creator>
  <dc:description/>
  <dc:language>en-US</dc:language>
  <cp:lastModifiedBy>Tracy Trimpe</cp:lastModifiedBy>
  <dcterms:modified xsi:type="dcterms:W3CDTF">2008-03-16T01:44:41Z</dcterms:modified>
  <cp:revision>11</cp:revision>
  <dc:subject/>
  <dc:title>Slide 1</dc:title>
</cp:coreProperties>
</file>