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DE-D510-48F8-A5CB-5E8C4663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185-5146-48E4-918E-AB78461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33F-202B-44D5-91C6-7F8BCF9D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43B-40B7-49BF-B808-DC4A18E8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F27-8ED4-483E-BEF2-AC0E7745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731-456C-43C0-91A2-538096A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770-5BC0-4661-96D2-B0F83BA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4B4-5A83-4F0E-B464-C9FF2F24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36C-E7AE-4CC3-BB3B-DE9089E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C42-F90C-4202-B062-EF500CC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9E0-C4EF-483A-80D2-D63B01E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BE8-84AB-4BE5-B1A9-F418D97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7CE-990B-49E4-8BF6-4B836329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y” part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rother or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 to the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itatio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 Prin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y” part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rother or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 to the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itatio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 Prin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gsten -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52680"/>
            <a:ext cx="228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 - 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336708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on - 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34340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rconium - Z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5334120"/>
            <a:ext cx="2590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enon - 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8:30Z</dcterms:modified>
  <cp:revision>18</cp:revision>
  <dc:subject/>
  <dc:title>Slide 1</dc:title>
</cp:coreProperties>
</file>