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823-EBFD-48ED-82F2-C000EDA1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2480-4091-456C-8DC8-F75EED44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187-311D-40F0-9541-C8BBC93D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44D-DC7A-483E-98ED-A931E450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78C-E689-4D1C-B9B8-3CFF7ED6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2CC-F1F1-4AE6-873C-747387E7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D89-7FF7-416B-9474-E93CFD3A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A9F-5323-4B35-9EAF-34C05E8C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209-3D8E-4694-8280-EDF14612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784-0D9F-46C4-9B66-5723B10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2DB-7688-4E9E-A618-3429BA8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657-4898-4E5B-AB99-5CFF1A2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30FB-F03B-4B4F-80A4-328E5AFFA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191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76960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ty” part of your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rother or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 to the din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itatio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rior Prin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219320"/>
            <a:ext cx="76960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ty” part of your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brother or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 to the din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itation diam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rior Prin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44792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gsten -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452680"/>
            <a:ext cx="228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mine - 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336708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on - 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4343400"/>
            <a:ext cx="2362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irconium - Z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5334120"/>
            <a:ext cx="2590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enon - 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8:30Z</dcterms:modified>
  <cp:revision>18</cp:revision>
  <dc:subject/>
  <dc:title>Slide 1</dc:title>
</cp:coreProperties>
</file>