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A74-0890-41D9-836A-4B998517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014-2EC2-4786-8CEE-789CE1EE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823-4E9C-4944-B264-B5B720EA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36C-E490-47B5-B77B-5CE4A979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51A-25A1-4EE3-86CB-407D528E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AAE-B805-43AC-A0E8-01D142F6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CA9-238F-4FD5-8113-39DB20F7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658-4EC4-4DF1-971D-EC703AC6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513-D9E1-43D9-90C3-DF66FB7B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9EF-0176-4B81-B979-52CFC487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AC8-8ABC-49D8-8DCD-5F8788B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F0E-7368-4A79-8A3F-3AEB375D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C196-D832-49D1-A0DE-4376D8160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038480" y="449568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19320"/>
            <a:ext cx="76960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n exciting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n followed the yellow brick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king 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Mony’s en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19320"/>
            <a:ext cx="76960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n exciting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an followed the yellow brick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king 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Mony’s en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144792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on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2895480"/>
            <a:ext cx="228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n - 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36708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anium -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434340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fnium - 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533412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mony - 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8:14Z</dcterms:modified>
  <cp:revision>19</cp:revision>
  <dc:subject/>
  <dc:title>Slide 1</dc:title>
</cp:coreProperties>
</file>