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ACC-1ED6-4DD7-A2C9-E8BED5AA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6D1-0FC0-4029-B3E1-C89DD38A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499-9857-4024-86C9-2327EC6D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5B3-8807-44EF-B9E4-C037C22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682-B45B-44C9-A77B-F5FDB2AC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3D5-B521-409E-911E-26803946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FA3-2BE1-4221-9CEF-D2B61BB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FAE-43DC-455C-9BE2-029F7F3F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4C2-90DC-4B14-AEFB-679729B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776-41E5-4744-A69F-4CB0E816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A66-B320-49FA-A776-E85FDA6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4E8-D46A-4FC6-B17F-A96362E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D23-1458-4262-BEE4-2DE0A912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038480" y="44956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exciting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n followed the yellow bric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king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ony’s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exciting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n followed the yellow bric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king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ony’s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144792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on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895480"/>
            <a:ext cx="228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n -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36708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anium -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34340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fnium -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533412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mony - 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8:14Z</dcterms:modified>
  <cp:revision>19</cp:revision>
  <dc:subject/>
  <dc:title>Slide 1</dc:title>
</cp:coreProperties>
</file>