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794-2AD3-4806-B42B-B4B362B1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6E-1E89-4268-AA2F-D8441E6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866-A8CF-4E66-B6F7-3E2387B4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87E-0B46-4DC2-A384-71BCB7E1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40E-6004-4620-88D0-2D7C1EC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6AE-B64E-4830-A781-5966166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A34-72B6-413B-A6F1-B4FC34B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FB6-FA4C-46D4-A548-7ACBECE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FAF-EDBB-40FB-A6E2-F4172DE5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28B-9F50-4674-AF10-02A7115E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E9C-E610-42F4-BF16-864AFE4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C70-0C7B-4187-AF57-19CEF858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9869-ED57-4AD4-8D3E-1FEC22196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man’s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sells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giving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key’s 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catch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91440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man’s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erson who sells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giving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key’s 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catch a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14300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ypton - K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362320"/>
            <a:ext cx="228600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 -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5053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um -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4800600"/>
            <a:ext cx="23619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nium - 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5943600"/>
            <a:ext cx="25905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ium -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7:55Z</dcterms:modified>
  <cp:revision>17</cp:revision>
  <dc:subject/>
  <dc:title>Slide 1</dc:title>
</cp:coreProperties>
</file>