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CD2-1674-4FA3-AC58-EF9B8762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968-A31D-42C5-8813-AC9E4FA8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0DA-54F9-479C-A8C6-82BFEE52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484-254E-4164-A472-1F656602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2D6-EFA2-4F5B-80E0-C512383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35F-D93D-44AD-898E-4FEEC896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B7D-F26A-4C1A-A3C4-AA4DF77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561-6E57-478D-B4BD-3D7DDD49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16B-2565-4C92-9F40-4FEB5DB1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A39-6BA8-498A-AA56-3A095F2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787-68E0-45DC-982D-6BA79CC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D74-4BE4-4417-9709-6165906F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CAAA-D8F6-4D03-AA6A-4A5CAF64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769644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man’s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who sells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giving g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key’s 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catch 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914400"/>
            <a:ext cx="7696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man’s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who sells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giving g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key’s 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catch 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14300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ypton - 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362320"/>
            <a:ext cx="228600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ur -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50532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um -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4800600"/>
            <a:ext cx="236196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nium - 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5943600"/>
            <a:ext cx="259056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ium -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7:55Z</dcterms:modified>
  <cp:revision>17</cp:revision>
  <dc:subject/>
  <dc:title>Slide 1</dc:title>
</cp:coreProperties>
</file>