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B23-198E-43D2-BBCC-7A4BB3C4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B22-A678-4062-BEE6-0397F96F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A3D-9FA7-41E2-97B4-A0C9BB76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DF3-083B-444A-97FA-E610C10F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CA8-A1B5-43B4-BE80-89F54C1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375-009F-4E4C-8D66-FF81F4D4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59F-CA43-429E-885F-B35E4EC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DC9-C7AE-4242-9B61-07DD3936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168-7B9B-48E0-93D5-5D745B4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02F-E03B-4ABD-82FB-4A39133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E1C-FD99-4584-A339-4502367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F5F-D690-436C-82C3-234652B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7638-B5B8-488C-8379-4B4B88D7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114800" y="4343400"/>
            <a:ext cx="3962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769644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dog does to a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ctors do to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a wrinkled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name for a polic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a goofy conv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7696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dog does to a 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ctors do to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a wrinkled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other name for a polic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of a goofy conv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7652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ium -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819520"/>
            <a:ext cx="685800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ium – Cm, Helium – He, or Barium - 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11480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 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334120"/>
            <a:ext cx="23623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er 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867280"/>
            <a:ext cx="1981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icon -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4:47:58Z</dcterms:modified>
  <cp:revision>16</cp:revision>
  <dc:subject/>
  <dc:title>Slide 1</dc:title>
</cp:coreProperties>
</file>