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7F1-1314-4439-B397-CC7BAB9A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970-6C92-4513-B9DE-BA0F1B9B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862-D294-4BB2-AFE5-C8A51BA2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4C7-4248-41F5-964A-B1D9FB7E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33-5C52-4091-9D1A-DCB794BD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06F-5763-44DF-8E81-A7BAFC2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135-9529-4D1A-9740-78AF81F6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6D8-9E07-4087-80DB-9818CA9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F92-EEAA-4767-8D91-C345FD8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74A-FE82-45C4-8273-ACB1C343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1AF-C615-4815-B724-E8FE8CE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F0D-CD4C-4CF5-B33F-A26330A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CEA8-4AAD-4D42-A45E-F40E17C1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434340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dog does to a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ctors do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a wrinkled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name for a polic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a goofy conv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dog does to a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ctors do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a wrinkled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name for a polic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a goofy conv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765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ium -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819520"/>
            <a:ext cx="685800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ium – Cm, Helium – He, or Barium -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11480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3341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er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867280"/>
            <a:ext cx="1981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 -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7:58Z</dcterms:modified>
  <cp:revision>16</cp:revision>
  <dc:subject/>
  <dc:title>Slide 1</dc:title>
</cp:coreProperties>
</file>