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0C8-8D22-4943-9086-C96B3D1E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438-2B5A-4953-A468-80C76CA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B86-49FD-4822-8D33-5346DA9C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723-4F20-45ED-A886-E9453366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980-351F-4F25-A325-6192D740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B85-677C-4ACE-A17B-4C6DCAA9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A49-B615-44EB-8BEB-8973C74F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DE4-425E-4C8A-94A2-079B98CD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C39-321B-42C1-8AC2-DE768B70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386-A3E7-4A61-8CD5-4E2AEAC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9A3-0391-4015-A633-1EF6568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F5A-8BAC-4956-B850-99160BBC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D714-C794-4D47-981D-F6089762F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figure out the element’s name from the cl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Cooper Black"/>
              </a:rPr>
              <a:t>"Punny" Chemistry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2079720" cy="2442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769644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id to ripped j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 away i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cloud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flowers in the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in a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pun to help you identify the element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the element’s name and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7696440" cy="58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id to ripped j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ve away in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cloud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to flowers in the 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do in a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1600200"/>
            <a:ext cx="236196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dium -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819520"/>
            <a:ext cx="678168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balt – Co, Neon – Ne, or Mercury -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3962520"/>
            <a:ext cx="236232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ranium -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5257800"/>
            <a:ext cx="236196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inum -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867280"/>
            <a:ext cx="2590920" cy="5205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ium -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8T16:16:41Z</dcterms:modified>
  <cp:revision>20</cp:revision>
  <dc:subject/>
  <dc:title>Slide 1</dc:title>
</cp:coreProperties>
</file>