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728-4E9A-471B-82EC-184BC849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B3C-BCE1-4AF6-916D-D6B45B42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904-DD87-43BB-8611-56AABAFE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4C5-BD41-4938-8B3D-E876676F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C3A-EA00-42A7-AC0E-BC24D84B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866-D667-449F-B93B-985D8BBD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936-D48C-4E7C-B9BE-86AA2E57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92D-4881-4D65-8063-F33161F9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266-4BD6-4C49-A822-2597679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233-0051-404A-810F-28EBEB1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979-90D6-468B-970C-7F75D974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C3B-7013-48E0-B863-68B2072E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93E-7FFD-4876-B313-0A53D2285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769644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id to ripped j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 away i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cloud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flowers in the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in a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7696440" cy="58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id to ripped j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 away i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cloud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flowers in the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in a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1600200"/>
            <a:ext cx="236196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dium -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819520"/>
            <a:ext cx="678168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balt – Co, Neon – Ne, or Mercury -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962520"/>
            <a:ext cx="236232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ranium -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257800"/>
            <a:ext cx="236196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inum -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867280"/>
            <a:ext cx="259092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ium -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8T16:16:41Z</dcterms:modified>
  <cp:revision>20</cp:revision>
  <dc:subject/>
  <dc:title>Slide 1</dc:title>
</cp:coreProperties>
</file>