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1CD0-BB4C-4D06-94E4-DAB7684C3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BC11-9C56-4764-97FE-F54D5AB0D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5A53-6DFB-4C22-B963-133BA33F5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BE0D-06C4-43EF-9417-EEAEF60CC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9C63-1AC8-4722-A812-00D9A1428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1130-BDEF-4365-873A-7BEB851D9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55C5-FB16-4955-9BEB-7696CBF62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37A8-B29A-4F35-9500-9DBF2776B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71B1-0458-4E45-BB42-9DA4B0075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6ED5-3FD9-49E7-B236-D1975FE9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BB33-4007-44B5-971D-4EFD0B89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A3F6-3D1C-4E02-B946-BDD64B3D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D243C-DCA4-4E11-9C67-085CAC06B9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800600" y="4723920"/>
            <a:ext cx="2819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Challeng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8600" y="609480"/>
            <a:ext cx="868680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33ff"/>
                </a:solidFill>
                <a:latin typeface="Cooper Black"/>
              </a:rPr>
              <a:t>Compound Challeng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3333ff"/>
              </a:solidFill>
              <a:latin typeface="Cooper Black"/>
              <a:ea typeface="Cooper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53920" y="3962520"/>
            <a:ext cx="2575080" cy="2600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1600200"/>
            <a:ext cx="426744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5Zn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3U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2Sn(Cr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3Pb(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 2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22860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he formulas provided to determine the number of atoms of each element in each comp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43400" y="2438280"/>
            <a:ext cx="40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ember to lis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element’s symbo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tell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umber of ato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each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38080" y="1600200"/>
            <a:ext cx="426744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5Zn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3U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2Sn(Cr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3Pb(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 2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2286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157464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n = 5    O = 10     H =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231156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= 3      F =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304956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n = 2     Cr = 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O = 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378792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b = 3     N = 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O =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452592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 = 4       H = 8      O =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00:06:52Z</dcterms:created>
  <dc:creator>Tracy Trimpe</dc:creator>
  <dc:description/>
  <dc:language>en-US</dc:language>
  <cp:lastModifiedBy>Tracy Trimpe</cp:lastModifiedBy>
  <dcterms:modified xsi:type="dcterms:W3CDTF">2008-03-16T15:44:16Z</dcterms:modified>
  <cp:revision>32</cp:revision>
  <dc:subject/>
  <dc:title>Slide 1</dc:title>
</cp:coreProperties>
</file>