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6D09-7DFF-4CEB-B139-7C3AAA722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1EE0-3367-4EE9-B41F-BD6C168E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6A55-BEBF-4009-B78A-369CA85D1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90DB-B2A6-43A4-87A8-F39D328DA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D705-48A0-4695-B65C-B8087DF2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9F5A-F6A8-4059-A665-1AEDBC9D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B98D-085A-4A0B-BCBB-996998D2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401D-EFFC-4880-9AF4-3FBA0802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4C79-86F7-4CB9-9DAA-5A33BDD0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1B26-C016-40A9-B4B0-06BC6A12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AF5C-CF60-4D06-A04F-F164DBCA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8B2E-0E4B-45FA-8AC0-B88EFE5D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552B-A792-45F2-B5BD-C7AFA3E5B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800600" y="472392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Challeng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" y="609480"/>
            <a:ext cx="86868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latin typeface="Cooper Black"/>
              </a:rPr>
              <a:t>Compound Challeng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ff"/>
              </a:solidFill>
              <a:latin typeface="Cooper Black"/>
              <a:ea typeface="Cooper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53920" y="3962520"/>
            <a:ext cx="2575080" cy="2600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1600200"/>
            <a:ext cx="426744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5Zn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3U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2Sn(Cr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3Pb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2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22860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formulas provided to determine the number of atoms of each element in each comp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243828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 to li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element’s symb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tell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umber of ato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eac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38080" y="1600200"/>
            <a:ext cx="426744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5Zn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3U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2Sn(Cr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3Pb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2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2286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157464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 = 5    O = 10     H =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231156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= 3      F =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304956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 = 2     Cr = 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O =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378792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b = 3     N = 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O =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452592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 = 4       H = 8      O 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Tracy Trimpe</dc:creator>
  <dc:description/>
  <dc:language>en-US</dc:language>
  <cp:lastModifiedBy>Tracy Trimpe</cp:lastModifiedBy>
  <dcterms:modified xsi:type="dcterms:W3CDTF">2008-03-16T15:44:16Z</dcterms:modified>
  <cp:revision>32</cp:revision>
  <dc:subject/>
  <dc:title>Slide 1</dc:title>
</cp:coreProperties>
</file>