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E29-2CAB-44EC-A33A-ADF24B6A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49E-7EE2-4C58-BB56-50FC8B1F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FD0-D57C-416E-8F02-95203C74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8A2-74A9-44EF-B9D2-E8B2917D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C75-F9B7-4126-A641-F8A74FBD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58C-EC9C-4A86-868E-652AB130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DB3A-46F0-40D0-8EC5-FA2E168C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CC7C-5FBE-48B0-A96F-1196D7AB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C289-307E-4BC6-8415-AB633C2B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BC1-A725-4D0B-890F-4DBD6C66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C532-F51E-4AC5-9C12-B091F94C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462-1F64-4733-B669-D0B5C810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03BF-5B59-487C-9FDE-5CD201D8A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86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Compound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53920" y="3962520"/>
            <a:ext cx="2575080" cy="260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600200"/>
            <a:ext cx="4267440" cy="36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4Be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2Z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Sr(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4Ag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Al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rmulas provided to determine the number of atoms of each element in each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4382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o li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element’s symb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ell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ato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1600200"/>
            <a:ext cx="4267440" cy="36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4Be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2Z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Sr(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4Ag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Al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57464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= 4    O = 8     H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23115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 = 6    P = 4      O =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304956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 = 1    Mn =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O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787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 = 4    Cl =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O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452592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= 1     N = 3     O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5:38:24Z</dcterms:modified>
  <cp:revision>30</cp:revision>
  <dc:subject/>
  <dc:title>Slide 1</dc:title>
</cp:coreProperties>
</file>