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09E3-7A60-4E8F-A05A-94E121A14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29A8-C26D-44B1-8D9D-E0EDF9E4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71D6-2B1D-4AC4-AA8C-1A4D5D33B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27CA-A601-4F6F-8DB2-EB6AB92B6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9B99-F579-4D05-9EBE-0A1A8133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FE13-206C-4FFE-BFF0-B7CB8CDD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0894-72BE-4C70-8CA8-7B5AA335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0DA0-DEDC-443E-8373-7DA7236A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3108-C26E-48A9-9567-B21FCACF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51E5-ECDF-4123-8B0C-5D0604CD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7B20-C9DA-43FD-97C6-7BA6FA0D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B2BF-D298-4295-91BA-CC15A0F4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64A3-A94D-4497-B690-9764F767E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800600" y="472392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Challeng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609480"/>
            <a:ext cx="86868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Compound Challeng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53920" y="3962520"/>
            <a:ext cx="2575080" cy="2600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1600200"/>
            <a:ext cx="4267440" cy="36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4Be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2Z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Sr(M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4Ag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Al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286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formulas provided to determine the number of atoms of each element in each comp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43828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o li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element’s symb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ell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umber of ato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eac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38080" y="1600200"/>
            <a:ext cx="4267440" cy="36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4Be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2Z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Sr(M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4Ag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Al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2286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57464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= 4    O = 8     H =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81280" y="23115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 = 6    P = 4      O =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1280" y="304956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r = 1    Mn =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O =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37879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 = 4    Cl = 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O 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452592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= 1     N = 3     O =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Tracy Trimpe</dc:creator>
  <dc:description/>
  <dc:language>en-US</dc:language>
  <cp:lastModifiedBy>Tracy Trimpe</cp:lastModifiedBy>
  <dcterms:modified xsi:type="dcterms:W3CDTF">2008-03-16T15:38:24Z</dcterms:modified>
  <cp:revision>30</cp:revision>
  <dc:subject/>
  <dc:title>Slide 1</dc:title>
</cp:coreProperties>
</file>