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4DD-6FD7-4BF6-9957-5CBC7FBC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92C-3A7D-4801-8787-F11A6DF0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464-8F95-4331-B93A-60D657BE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3DD-67E6-430E-B290-3FE8500A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965-90BC-49E0-AC94-3DCD5F7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83B-AFE6-4103-ABC9-9C0167B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08B-39E1-4E4C-AFFE-D3F3B38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31A-CA3A-43C7-A9A3-BA02F535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8C0-7415-4B24-89A2-56893C8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299-13AE-4FC5-8840-D85E09A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765-C0E7-4FF4-BBB2-72911E9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3FE-4074-484C-9763-BF99F88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799-D53B-4890-92C2-DCC398D2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2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6  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8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18   H =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 = 2    C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4      H =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600200"/>
            <a:ext cx="236232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2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31:21Z</dcterms:modified>
  <cp:revision>28</cp:revision>
  <dc:subject/>
  <dc:title>Slide 1</dc:title>
</cp:coreProperties>
</file>