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B6E-CA3C-4B2D-A0FC-A3CD739D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434-0530-43C4-8034-31BC7889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6BE-71FF-42C3-A9C9-0C8161E4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636-6E7E-463A-9032-AC97C50C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591A-1ACE-4118-BC78-8606A11E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3BF-C4FC-4D17-91F9-8F99B13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F70-0EEA-406F-AC86-FC74AA3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CFA-D046-4706-8ED3-F0DCDBE6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C43-C300-4960-9D57-2D28868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5AF-B567-4BF9-8DAB-7D9E04C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9BD-508A-4B87-AA62-233AAF7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44C-3827-493F-A490-CB1F392A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07F1-25AA-491E-9F2E-FC0D14AA5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00600" y="47239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halleng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09480"/>
            <a:ext cx="8686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Compound Challeng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920" y="3962520"/>
            <a:ext cx="2575080" cy="260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600200"/>
            <a:ext cx="426744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2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rmulas provided to determine the number of atoms of each element in each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4382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 to li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element’s 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ell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ato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1574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6  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311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 = 8   O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0495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= 18   H =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37879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 = 2    C =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525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4      H =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600200"/>
            <a:ext cx="236232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6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3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2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4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6:52Z</dcterms:created>
  <dc:creator>Tracy Trimpe</dc:creator>
  <dc:description/>
  <dc:language>en-US</dc:language>
  <cp:lastModifiedBy>Tracy Trimpe</cp:lastModifiedBy>
  <dcterms:modified xsi:type="dcterms:W3CDTF">2008-03-16T15:31:21Z</dcterms:modified>
  <cp:revision>28</cp:revision>
  <dc:subject/>
  <dc:title>Slide 1</dc:title>
</cp:coreProperties>
</file>