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971-70AC-4532-87E3-4734AFA7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9D5-A3B2-4576-9FE6-511543C4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0E6-3D82-4E96-A206-DE0E7E43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2EC-A7D9-4496-BE8F-8FD07004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73E-CF55-4610-9D6F-CCB5F385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172-79BF-4DE4-83B2-B7CB2DE2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188-1259-4579-8A33-E6054590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522-56C5-4192-BC60-8B2EA19D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F6C-AEB5-4269-99D4-27631645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F3B-F3E9-479C-ACD7-4605BDA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B10-F9B8-455C-AC19-8955519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E33-1F82-4A7A-BE9E-E667D57F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DF4F-3E6D-48F6-AF1F-08A15D92C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4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3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6N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4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li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element’s 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ell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4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3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6N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4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574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4   O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311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4   O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049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 = 3   O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787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= 6    S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525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4      H = 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26:13Z</dcterms:modified>
  <cp:revision>25</cp:revision>
  <dc:subject/>
  <dc:title>Slide 1</dc:title>
</cp:coreProperties>
</file>