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E99-AAC9-49FE-9FB7-6122D969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9A1-AC5E-4FD8-9C95-ACC218A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573-DFE4-411C-A91B-7AE6C5AD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62E-8F7B-45EB-8D00-4CD5AF55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E0E-6AFA-4CB8-ADC7-809B18B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E03-1DAF-4504-A179-C5BB34BB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FEF-4E27-4DAC-9E9A-92A0288A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8B6-DE56-4217-93E6-ADB4730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A39-6E38-42C5-9A03-9FEC3F5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B21-1C67-4F7E-BE41-91910ADE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4D5-D63A-4F1E-BB4D-1FC5D4B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12D-CA83-453A-A16D-BDC5844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4CE4-A426-43E4-964C-6ACE50DA3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6N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4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6N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57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4   O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4   O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049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 = 3   O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= 6    S = 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25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4      H = 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26:13Z</dcterms:modified>
  <cp:revision>25</cp:revision>
  <dc:subject/>
  <dc:title>Slide 1</dc:title>
</cp:coreProperties>
</file>