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54A-9186-46B2-8088-C8952276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C5C-E264-40CA-877F-461DB13B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195-FD8F-4685-987B-BA1B5951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BBC-B8A9-4D23-9E95-8980CD49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46F-00BD-433A-BE99-EFCFD698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ACE-478B-4ED9-8ED4-EA10F9A7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691-4B7A-49A2-9ABF-1DB16CF0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DF6-CF76-474D-9276-EFE2BDE7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C24-34F9-4628-A384-C010BBD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A7B-0AD8-4E02-A02F-D389B73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A6A-8B7D-47F6-940D-F2BB03E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460-318F-4422-985C-DB5B053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DC3F-47A4-4663-9A20-58FE7BCDA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447920"/>
            <a:ext cx="426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each element by symbol and tell how many atoms there are in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____   O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1905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574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1   O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4   O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049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 = 1   O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= 3   H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O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525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4     S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28:48Z</dcterms:modified>
  <cp:revision>22</cp:revision>
  <dc:subject/>
  <dc:title>Slide 1</dc:title>
</cp:coreProperties>
</file>