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AE-77E2-4017-9409-17C9234E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9F4-C7A6-478B-B7E2-1C02ADD7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5AD-5CC7-4382-91EC-BD587EBF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718-E104-48E3-B0A3-6101FEC7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04F-A8BA-4007-8FC2-CADDF4B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85C-BAF6-4F69-A37D-1A5E82A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A97-B0B8-48FE-8D51-AA7A3EE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D6E-6361-4B8C-8186-ECB71AB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30B-B595-42CF-9887-160B46A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2BC-F378-4E16-8FCF-BA35A3F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49C-46B4-4B8D-B91B-78FB9E9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790-B516-4241-8FE5-688BD3D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76F3-69EB-453F-B058-8923583F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44792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each element by symbol and tell how many atoms there are in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____   O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905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1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 = 1   O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= 3   H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O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  S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8:48Z</dcterms:modified>
  <cp:revision>22</cp:revision>
  <dc:subject/>
  <dc:title>Slide 1</dc:title>
</cp:coreProperties>
</file>