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366-EE76-4D20-BBB3-371CDE48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BDE-687D-403A-9F48-FA78981D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941-1651-49DF-9C68-C1380D89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9E6-9D25-46A3-9F39-961EBC08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D18-297B-4FB5-9D9C-502A6351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C60-E3A4-44FF-BD90-A567F118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3AD-AE7E-4539-9AFF-9BC507C6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6B1-A57D-4A85-BD48-FB4AA167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92D-27CC-4951-9216-FD88C92A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C86-CE45-4229-838C-B1F04AF7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396-3297-4AB5-B921-D7A35B26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07C-BB89-4539-80BF-BD8FE7E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9FCA-5437-4DEF-80C0-CF81E8480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a periodic table to help you identify each element. Give its symbol for the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3352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 am a member of the Boron family with 49 prot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 have a total of 74 electrons in an at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 have an atomic mass of 55.84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 have 8 neutrons in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 have 14 protons, 14 neutrons, and 14 electrons in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 have 99 protons and 99 electrons in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I am a member of the Halide family with 18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I have 20 neutrons, but only 2 valence electr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43352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 am a member of the Boron family with 49 prot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 have a total of 74 electrons in an at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 have an atomic mass of 55.84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 have 8 neutrons in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 have 14 protons, 14 neutrons, and 14 electrons in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 have 99 protons and 99 electrons in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I am a member of the Halide family with 18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I have 20 neutrons, but only 2 valence electr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1422360"/>
            <a:ext cx="99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1981080"/>
            <a:ext cx="99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2514600"/>
            <a:ext cx="99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048120"/>
            <a:ext cx="99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720" y="3200400"/>
            <a:ext cx="99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4191120"/>
            <a:ext cx="99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4680" y="4724280"/>
            <a:ext cx="99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51840" y="5295960"/>
            <a:ext cx="99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03-16T02:45:27Z</dcterms:modified>
  <cp:revision>13</cp:revision>
  <dc:subject/>
  <dc:title>Slide 1</dc:title>
</cp:coreProperties>
</file>