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9C4-97B8-4D54-93EE-1E200BD3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3C5-452C-4BC8-A050-839DC13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5FC-9A91-47F6-AAFE-BF893EB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723-2183-4637-8985-172447F0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F2E-350E-475C-A3DE-6D517E68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589-9CC0-4ECB-A7CA-B9B49606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CAF-90B8-444C-8D1F-51FC8F5D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506B-BD43-4A1C-AB94-92D02AD5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591-95EC-4E9F-9661-A6FE9566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FD7-41EC-47D0-A420-8C9B30C6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4B4-B0CC-494D-8F4F-A32EACA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A1D-BA97-4DBD-8B04-E01E5D3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60CA-0D1D-4585-8CD1-2DCD082E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periodic table to help you identify each element. Give its symbol for the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3352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 am a member of the Boron family with 49 prot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 have a total of 74 electrons in an a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 have an atomic mass of 55.8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 have 8 neu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have 14 protons, 14 neutrons, and 14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 have 99 protons and 99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 am a member of the Halide family with 18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 have 20 neutrons, but only 2 valence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43352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 am a member of the Boron family with 49 prot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 have a total of 74 electrons in an at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 have an atomic mass of 55.8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 have 8 neu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I have 14 protons, 14 neutrons, and 14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 have 99 protons and 99 electrons in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I am a member of the Halide family with 18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I have 20 neutrons, but only 2 valence electr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142236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98108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251460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04812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320040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419112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4724280"/>
            <a:ext cx="9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51840" y="5295960"/>
            <a:ext cx="99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5:27Z</dcterms:modified>
  <cp:revision>13</cp:revision>
  <dc:subject/>
  <dc:title>Slide 1</dc:title>
</cp:coreProperties>
</file>