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CE3A3-CCD5-4300-8B71-F2F52C3D5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7D620-3672-4B47-AE6A-EBBD8153C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07E47-53D8-4E0A-9FA1-7A425C2C9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6F9F6-782C-4F1A-A30B-5D72F5D15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E2410-9757-4968-ABAB-D51E0ADFA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894CA-458E-4FCC-B7FE-6751711F5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0CAA7-8772-478E-8D39-8AA4EAA22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D0DEE-660B-4AB4-AE5E-8366BF0A2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D9433-158A-4756-A710-B901A8644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80129-8AEC-4677-BF8D-050566D74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85912-2457-446C-AFBF-88E85033E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11A57-FD98-490B-B9D7-62DDE3DA4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BCBDC-5EB5-4F83-B86B-EB912CE632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219320" y="548604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llenge #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2819520" cy="2422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>
            <a:off x="228600" y="2057400"/>
            <a:ext cx="868680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Atomic Math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44" name=""/>
          <p:cNvSpPr/>
          <p:nvPr/>
        </p:nvSpPr>
        <p:spPr>
          <a:xfrm>
            <a:off x="1219320" y="6477120"/>
            <a:ext cx="6400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. Trimpe 2008   http://sciencespot.net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629400" y="152280"/>
            <a:ext cx="238140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685800" y="304920"/>
            <a:ext cx="733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ll in the correct number for each letter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sing the information provi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228600" y="1397160"/>
          <a:ext cx="8686800" cy="4063680"/>
        </p:xfrm>
        <a:graphic>
          <a:graphicData uri="http://schemas.openxmlformats.org/drawingml/2006/table">
            <a:tbl>
              <a:tblPr/>
              <a:tblGrid>
                <a:gridCol w="1447920"/>
                <a:gridCol w="1447560"/>
                <a:gridCol w="1447920"/>
                <a:gridCol w="1447920"/>
                <a:gridCol w="1447560"/>
                <a:gridCol w="1447920"/>
              </a:tblGrid>
              <a:tr h="1015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e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omic Numb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omic Mas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of Proto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of Neutro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of Electro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g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B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D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F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G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H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" name=""/>
          <p:cNvSpPr/>
          <p:nvPr/>
        </p:nvSpPr>
        <p:spPr>
          <a:xfrm>
            <a:off x="4749840" y="2565360"/>
            <a:ext cx="1066680" cy="703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248520" y="2590920"/>
            <a:ext cx="1066680" cy="703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696080" y="2590920"/>
            <a:ext cx="1067040" cy="703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314880" y="3591000"/>
            <a:ext cx="1066680" cy="703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3591000"/>
            <a:ext cx="1066680" cy="703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696080" y="3591000"/>
            <a:ext cx="1067040" cy="703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905120" y="4572000"/>
            <a:ext cx="1066680" cy="703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800600" y="4572000"/>
            <a:ext cx="1066680" cy="703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248520" y="4572000"/>
            <a:ext cx="1066680" cy="703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685800" y="304920"/>
            <a:ext cx="733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answers are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304920" y="1397160"/>
          <a:ext cx="8686800" cy="4063680"/>
        </p:xfrm>
        <a:graphic>
          <a:graphicData uri="http://schemas.openxmlformats.org/drawingml/2006/table">
            <a:tbl>
              <a:tblPr/>
              <a:tblGrid>
                <a:gridCol w="1447920"/>
                <a:gridCol w="1447560"/>
                <a:gridCol w="1447920"/>
                <a:gridCol w="1447920"/>
                <a:gridCol w="1447560"/>
                <a:gridCol w="1447920"/>
              </a:tblGrid>
              <a:tr h="1015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e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omic #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omic Mas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to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utro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ectro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g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B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D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F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G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H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9" name=""/>
          <p:cNvSpPr/>
          <p:nvPr/>
        </p:nvSpPr>
        <p:spPr>
          <a:xfrm>
            <a:off x="4749840" y="2565360"/>
            <a:ext cx="1066680" cy="703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248520" y="2590920"/>
            <a:ext cx="1066680" cy="703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96080" y="2590920"/>
            <a:ext cx="1067040" cy="703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314880" y="3591000"/>
            <a:ext cx="1066680" cy="703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800600" y="3591000"/>
            <a:ext cx="1066680" cy="703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696080" y="3591000"/>
            <a:ext cx="1067040" cy="703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905120" y="4572000"/>
            <a:ext cx="1066680" cy="703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800600" y="4572000"/>
            <a:ext cx="1066680" cy="703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248520" y="4572000"/>
            <a:ext cx="1066680" cy="703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6T02:03:21Z</dcterms:created>
  <dc:creator>Tracy Trimpe</dc:creator>
  <dc:description/>
  <dc:language>en-US</dc:language>
  <cp:lastModifiedBy>Tracy Trimpe</cp:lastModifiedBy>
  <dcterms:modified xsi:type="dcterms:W3CDTF">2008-03-16T02:40:53Z</dcterms:modified>
  <cp:revision>9</cp:revision>
  <dc:subject/>
  <dc:title>Slide 1</dc:title>
</cp:coreProperties>
</file>