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7F8-5C2E-4FBA-99DF-EA4BB0BB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DEB-9EED-4D58-8CAE-91260A48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99C-629B-4734-9CC5-B9337E9B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C43-E1C7-4A1B-A1DE-83F2EE59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19B-C65B-46F1-80F7-97DACC89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7EB-5E41-47A6-84EE-C7407AD0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A54-1B2F-486C-A7CC-D9FEBE97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62D-4B14-43D3-9B71-AB16E59D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E68-5A58-418A-B28A-E25AA24B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4FE-B506-45C6-80CE-CA0A3274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47E-7EDB-4A31-A23C-B5ECA19A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A36-2CCC-479E-B01A-1D900988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F46D-6B0B-42B4-83E6-18C94A58A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 in the correct number for each lett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information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749840" y="25653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488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359100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4749840" y="25653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25909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1488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359100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03-16T02:40:53Z</dcterms:modified>
  <cp:revision>9</cp:revision>
  <dc:subject/>
  <dc:title>Slide 1</dc:title>
</cp:coreProperties>
</file>