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FF89-C310-48A3-B701-C976016F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1E98-F21E-4386-AD69-AF48A82A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D0A-F63B-40CC-A9EF-11506C3A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C0FB-6B85-46D0-B3D9-0E3F35C9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4C0-8258-4B38-96FB-1ACD1BE3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4BA8-2260-424F-941F-B5F247F6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2A1-9761-4674-8388-DFC6A528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B92-F10A-4848-8030-2738264D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5A5-EF77-46EC-89B5-0EE45667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F7A-B514-4BA9-8F77-E7B1DA12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D51-CB78-4E68-8522-BCEDE468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A5A-50CB-4897-8957-CD5FB04D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85EC-CF62-4BD1-A796-06C8843CA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9320" y="5486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19520" cy="2422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28600" y="2057400"/>
            <a:ext cx="8686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tomic Ma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l in the chart using the information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1397160"/>
          <a:ext cx="8686800" cy="40636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 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749840" y="25653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259092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488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96080" y="359100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1397160"/>
          <a:ext cx="8686800" cy="40636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 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4711680" y="254952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257508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257508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38560" y="35751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62440" y="357516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35751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5561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62440" y="455616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84800" y="455616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03-16T02:40:36Z</dcterms:modified>
  <cp:revision>9</cp:revision>
  <dc:subject/>
  <dc:title>Slide 1</dc:title>
</cp:coreProperties>
</file>