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BB85-36C2-4F3B-BD7A-BF696F55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9511-60A0-40AA-807A-F5F43BE7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04B5-8D12-4C41-BBAB-DF2AA861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28F6-E3B6-4A16-8255-BCB8AC2C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FB03-6CA9-4073-9830-77CFB2FA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53C3-1FD3-4DEB-9AB8-4F945D4C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3892-CC53-4EE8-AE2D-F06BBCEB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DD5E-1643-4CEA-835C-4E0A075E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D3F4-9F37-47CE-B6C9-BB0EC2E5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3D50-4DBE-48EF-B7C1-DA4EFFE7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246A-5D60-4D79-BC13-491997F4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3001-B25D-47E4-805D-364D1FA5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9F0A-EB10-40DE-AE65-B4C8B40A1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19320" y="5486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19520" cy="2422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28600" y="2057400"/>
            <a:ext cx="86868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tomic Math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30492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l in the chart using the information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28600" y="1397160"/>
          <a:ext cx="8686800" cy="406368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1447560"/>
                <a:gridCol w="144792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 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749840" y="256536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96080" y="259092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14880" y="3591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3591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96080" y="359100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30492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8600" y="1397160"/>
          <a:ext cx="8686800" cy="406368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1447560"/>
                <a:gridCol w="144792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 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4711680" y="254952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257508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257508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38560" y="357516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62440" y="357516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357516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455616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62440" y="455616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84800" y="455616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Tracy Trimpe</cp:lastModifiedBy>
  <dcterms:modified xsi:type="dcterms:W3CDTF">2008-03-16T02:40:36Z</dcterms:modified>
  <cp:revision>9</cp:revision>
  <dc:subject/>
  <dc:title>Slide 1</dc:title>
</cp:coreProperties>
</file>