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652-47AB-4CD1-86BD-3B8A4AF7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B03-E80C-44A1-A19E-3CE0A1FD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06D-2C63-443F-A1D8-36A3B6B7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162-F9F3-424D-B4C2-43D34680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925-8D27-4645-AA0B-5D8A8788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5ED-A56B-4A7C-B82D-CC86E12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B58-78AF-4368-8492-B0BD49E4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A49-6224-4B21-9673-DBCA305D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00D-A755-4B81-A571-A935C7BC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221-4471-4678-90F4-D4FC7D74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003-4F68-408E-9447-2969365A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CC3-9BFA-4305-8B14-957800C2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88B-B4ED-43FA-95CD-AB7B03BB4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47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L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Lith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6.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ydroge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.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lic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8.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8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Ar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Arg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9.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information provided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number for lithiu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does an atom of Si ha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mass for Arg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does an atom of H ha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L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are in an atom of S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would be in the second energy level of an atom of S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nd neutrons are in an atom of Arg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54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L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Lith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6.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ydroge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.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lic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8.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8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Ar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Arg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9.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number for lithiu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does an atom of Si ha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mass for Arg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does an atom of H ha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L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are in an atom of S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would be in the second energy level of an atom of S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nd neutrons are in an atom of Arg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4382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8954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352680"/>
            <a:ext cx="1066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38098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42670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47242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51814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5638680"/>
            <a:ext cx="1067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03-16T02:38:59Z</dcterms:modified>
  <cp:revision>6</cp:revision>
  <dc:subject/>
  <dc:title>Slide 1</dc:title>
</cp:coreProperties>
</file>