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9A8-FBF0-46BA-AA67-4916F4B3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F9F-D425-4531-8462-6125F4EB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18A-79B7-4898-8B72-1ED8A4A8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C35-9022-42D3-A6E1-76E65C77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445-8FB0-43AF-8A09-3D25088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9D0-B5C0-4E34-BE70-C37DDE9F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C39-0DE5-4769-8194-FEC6772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61F-82CC-4987-8522-5A7624D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1E4-AF58-4694-A3F0-849C731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0F1-4CA4-47DF-AEF9-8D9DB68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8DE-4730-4CC1-BB6A-E8FC764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CB6-3CC8-4304-AEDB-9C33CEA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A4C-2965-49BA-95A7-04C4E2AA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47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th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6.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ydrog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.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lic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8.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8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g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9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information provided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lith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does an atom of Si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does an atom of H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L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would be in the second energy level of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54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th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6.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ydrog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.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lic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8.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8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g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9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lith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does an atom of Si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does an atom of H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L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would be in the second energy level of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4382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8954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352680"/>
            <a:ext cx="1066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8098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2670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47242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51814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638680"/>
            <a:ext cx="1067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38:59Z</dcterms:modified>
  <cp:revision>6</cp:revision>
  <dc:subject/>
  <dc:title>Slide 1</dc:title>
</cp:coreProperties>
</file>