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EC6-E4FB-4B9A-9E1D-EE3DE776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17C-3259-47C6-B9FA-231E091D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376-C9E7-415B-A3C1-DDE556BD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DE1-8CA7-4A2B-800F-39313A6F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48D-AE49-4953-AD6E-0B529689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455-37B5-47D0-B9DA-F0A8E448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DCC-15DB-472D-9117-2194FAC1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8E0-DF35-4BB7-894C-C29C402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5AD-0EE1-4D89-B04E-12F0389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9A8-CED3-4E9C-A141-1C81C6C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04-E8EA-4DA0-81CD-10E899B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83F-B9CF-41EA-B6DB-7EE939E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860-F515-4C61-8AB6-DDC88FA8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47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information provided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14400" y="838080"/>
            <a:ext cx="6981840" cy="1191240"/>
            <a:chOff x="914400" y="838080"/>
            <a:chExt cx="6981840" cy="1191240"/>
          </a:xfrm>
        </p:grpSpPr>
        <p:sp>
          <p:nvSpPr>
            <p:cNvPr id="54" name=""/>
            <p:cNvSpPr/>
            <p:nvPr/>
          </p:nvSpPr>
          <p:spPr>
            <a:xfrm>
              <a:off x="2722680" y="838080"/>
              <a:ext cx="155556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Bor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0.8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Hel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4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060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diu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.9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40320" y="838080"/>
              <a:ext cx="1555920" cy="1191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17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hlorin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5240" y="2463840"/>
            <a:ext cx="89154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number for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omic mass for Bor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H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electrons are in an atom of C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 many protons and neutrons would be in an atom of Chlori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neutrons are in an atom of N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protons and neutrons are in an atom of Heliu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24382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89548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81 or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3526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8098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42670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4724280"/>
            <a:ext cx="1371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.45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518148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56480" y="5638680"/>
            <a:ext cx="1066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003 o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03Z</dcterms:modified>
  <cp:revision>5</cp:revision>
  <dc:subject/>
  <dc:title>Slide 1</dc:title>
</cp:coreProperties>
</file>