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0B0-4007-4654-8013-5F823AB5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72D-E17A-4BED-9DEB-195F7D32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825-D30E-4DE3-AF24-28A61D51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478-207B-4944-A59D-7289A9AB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890-C565-460C-8CDC-0D7DE606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5F4-E768-4C13-A74E-76A8B3A7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3C3-9010-4EB5-AAD2-C487D762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0D3-90BA-4B97-ABEC-072A8E62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A86-3560-4281-9EC0-966686AE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75A-5C6D-4605-A461-A54357E8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1C0-434B-414A-A270-9F890BFD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D60-2368-4E3C-9873-926B94A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E769-C727-43B1-B59E-1980F83F0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47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5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B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Bor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0.8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el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4.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d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.9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7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hlorin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information provided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number for Chlori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mass for Bor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re in an atom of 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H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are in an atom of C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 many protons and neutrons would be in an atom of Chlori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nd neutrons are in an atom of Heliu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54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5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B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Bor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0.8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el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4.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d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.9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7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hlorin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number for Chlori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mass for Bor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re in an atom of 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H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are in an atom of C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 many protons and neutrons would be in an atom of Chlori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nd neutrons are in an atom of Heliu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4382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89548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81 or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3526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8098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42670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4724280"/>
            <a:ext cx="1371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.45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51814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56480" y="5638680"/>
            <a:ext cx="1066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003 o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40:03Z</dcterms:modified>
  <cp:revision>5</cp:revision>
  <dc:subject/>
  <dc:title>Slide 1</dc:title>
</cp:coreProperties>
</file>