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73D-6008-4F3B-B64D-41FBDC4B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FDC-B197-4062-AA1F-98B4F177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26C-DF8B-4FC6-9171-FE0364E8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16B-1326-4720-8B9A-A6256F41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95E-E7CB-4B9E-80EF-9AFA446C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82B-A933-4C5A-9BBC-37B4956C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924-8BE0-469F-A081-F87B259B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BA3-01F5-4847-9085-F923099B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DBE-1BBE-45DC-BD9D-A1B6AA4C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DC74-375B-41D5-A9E6-CE52FE02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084-FFF4-43C3-BF55-D2808FA0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CFA-0947-4FFE-A05C-1B378885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F21B-115A-4181-BBEB-73F4AC45D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04920" y="838080"/>
            <a:ext cx="85341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Cooper Black"/>
              </a:rPr>
              <a:t>Cell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8120" y="5029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ambl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Tracy\AppData\Local\Microsoft\Windows\Temporary Internet Files\Content.IE5\R7YBRGGQ\MCBD20088_0000[1].wmf"/>
          <p:cNvPicPr/>
          <p:nvPr/>
        </p:nvPicPr>
        <p:blipFill>
          <a:blip r:embed="rId2"/>
          <a:stretch/>
        </p:blipFill>
        <p:spPr>
          <a:xfrm>
            <a:off x="685800" y="426708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cell parts using the clue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"/>
          <p:cNvSpPr/>
          <p:nvPr/>
        </p:nvSpPr>
        <p:spPr>
          <a:xfrm>
            <a:off x="152280" y="885960"/>
            <a:ext cx="358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O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EERE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B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LCO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D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I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OR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T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7"/>
          <p:cNvSpPr/>
          <p:nvPr/>
        </p:nvSpPr>
        <p:spPr>
          <a:xfrm>
            <a:off x="3809880" y="885960"/>
            <a:ext cx="510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needed for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the outside of an animal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name it – I can stor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ake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ork with the 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full of genet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C:\Users\Tracy\AppData\Local\Microsoft\Windows\Temporary Internet Files\Content.IE5\4XTDOIJU\MCj02115280000[1].wmf"/>
          <p:cNvPicPr/>
          <p:nvPr/>
        </p:nvPicPr>
        <p:blipFill>
          <a:blip r:embed="rId1"/>
          <a:stretch/>
        </p:blipFill>
        <p:spPr>
          <a:xfrm>
            <a:off x="1600200" y="5295960"/>
            <a:ext cx="85572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C:\Users\Tracy\AppData\Local\Microsoft\Windows\Temporary Internet Files\Content.IE5\R7YBRGGQ\MCj02115260000[1].wmf"/>
          <p:cNvPicPr/>
          <p:nvPr/>
        </p:nvPicPr>
        <p:blipFill>
          <a:blip r:embed="rId2"/>
          <a:stretch/>
        </p:blipFill>
        <p:spPr>
          <a:xfrm>
            <a:off x="3641760" y="5280120"/>
            <a:ext cx="1344600" cy="14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C:\Users\Tracy\AppData\Local\Microsoft\Windows\Temporary Internet Files\Content.IE5\J0KW0FG7\MCj02115160000[1].wmf"/>
          <p:cNvPicPr/>
          <p:nvPr/>
        </p:nvPicPr>
        <p:blipFill>
          <a:blip r:embed="rId3"/>
          <a:stretch/>
        </p:blipFill>
        <p:spPr>
          <a:xfrm>
            <a:off x="6172200" y="5121360"/>
            <a:ext cx="11923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228600" y="914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CHLOROP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228600" y="16304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28600" y="4495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CHROM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228600" y="2346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228600" y="30639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228600" y="3780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GOLGI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3809880" y="885960"/>
            <a:ext cx="5105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needed for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the outside of an animal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name it – I can stor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ake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ork with the 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full of genet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</cp:lastModifiedBy>
  <dcterms:modified xsi:type="dcterms:W3CDTF">2010-04-30T22:51:33Z</dcterms:modified>
  <cp:revision>18</cp:revision>
  <dc:subject/>
  <dc:title>Slide 1</dc:title>
</cp:coreProperties>
</file>