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67C-E0B1-4829-A52F-14EB5B47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57-05CE-4776-9F16-CD4DCC9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E6A-2804-4C66-B90C-A1A7D7BF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E33-28B7-432D-A8B2-42804D42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DC2-AF5D-4C18-AC2E-5602D081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5D-174F-4278-A2A2-6C9B8E5E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A5A-4FE1-4CFF-BCA8-8742423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720-E18A-478A-856D-CAF935D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302-8865-459C-AF10-34DF7CAB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D13-04A4-4411-96BE-AC88327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DE6-61C8-43A1-A0ED-0E2CD8B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D30-4B7B-4F67-B38E-764406C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28DE-7E3C-4CEA-A507-47179C7A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Cell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mb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ell parts using the clu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152280" y="885960"/>
            <a:ext cx="358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EERE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B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C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I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OR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T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needed fo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outside of an anim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ame it – I can stor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ke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rk with the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ull of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C:\Users\Tracy\AppData\Local\Microsoft\Windows\Temporary Internet Files\Content.IE5\4XTDOIJU\MCj02115280000[1].wmf"/>
          <p:cNvPicPr/>
          <p:nvPr/>
        </p:nvPicPr>
        <p:blipFill>
          <a:blip r:embed="rId1"/>
          <a:stretch/>
        </p:blipFill>
        <p:spPr>
          <a:xfrm>
            <a:off x="1600200" y="5295960"/>
            <a:ext cx="85572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C:\Users\Tracy\AppData\Local\Microsoft\Windows\Temporary Internet Files\Content.IE5\R7YBRGGQ\MCj02115260000[1].wmf"/>
          <p:cNvPicPr/>
          <p:nvPr/>
        </p:nvPicPr>
        <p:blipFill>
          <a:blip r:embed="rId2"/>
          <a:stretch/>
        </p:blipFill>
        <p:spPr>
          <a:xfrm>
            <a:off x="3641760" y="5280120"/>
            <a:ext cx="134460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C:\Users\Tracy\AppData\Local\Microsoft\Windows\Temporary Internet Files\Content.IE5\J0KW0FG7\MCj02115160000[1].wmf"/>
          <p:cNvPicPr/>
          <p:nvPr/>
        </p:nvPicPr>
        <p:blipFill>
          <a:blip r:embed="rId3"/>
          <a:stretch/>
        </p:blipFill>
        <p:spPr>
          <a:xfrm>
            <a:off x="6172200" y="5121360"/>
            <a:ext cx="11923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28600" y="914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28600" y="16304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286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CHRO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28600" y="2346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28600" y="3063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28600" y="3780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809880" y="885960"/>
            <a:ext cx="510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needed fo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outside of an anim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ame it – I can stor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ke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rk with the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ull of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1:33Z</dcterms:modified>
  <cp:revision>18</cp:revision>
  <dc:subject/>
  <dc:title>Slide 1</dc:title>
</cp:coreProperties>
</file>