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297-D6E1-41BB-9DD2-62CD714F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1D4-88E4-45BD-9CCB-66714715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E61-22BA-4AD3-9053-95897C5D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4CF-06F9-4688-8422-3D9615CF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84A-8D40-4EF2-95BA-ED740BD5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5BC-1888-458B-808D-29655974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593-6369-4282-8FE3-5BE5CA8A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BE8-81A3-40B5-BD8E-39D6F16A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99C-9FA2-410C-A3DD-036BA0D3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CF9-BAA7-499F-A7BE-1FE73F40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998-7F33-4F9A-83F7-EC5AA53B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640-FBD5-4EB0-B8F7-D496A40B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CFE6-81A5-4FC5-9391-73EF33310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04920" y="838080"/>
            <a:ext cx="85341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Cooper Black"/>
              </a:rPr>
              <a:t>Cell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8120" y="5029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amble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Tracy\AppData\Local\Microsoft\Windows\Temporary Internet Files\Content.IE5\R7YBRGGQ\MCBD20088_0000[1].wmf"/>
          <p:cNvPicPr/>
          <p:nvPr/>
        </p:nvPicPr>
        <p:blipFill>
          <a:blip r:embed="rId2"/>
          <a:stretch/>
        </p:blipFill>
        <p:spPr>
          <a:xfrm>
            <a:off x="685800" y="426708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cell organelles using the clue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809880" y="885960"/>
            <a:ext cx="510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 way with amino acid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the garbage ma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find everything in m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the “brain”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ll the “power” you’ll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found all “around” a plan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5"/>
          <p:cNvSpPr/>
          <p:nvPr/>
        </p:nvSpPr>
        <p:spPr>
          <a:xfrm>
            <a:off x="152280" y="885960"/>
            <a:ext cx="358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IESOM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Y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SYMAO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SLCU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NACITHI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AW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C:\Users\Tracy\AppData\Local\Microsoft\Windows\Temporary Internet Files\Content.IE5\R7YBRGGQ\MCj02114940000[1].wmf"/>
          <p:cNvPicPr/>
          <p:nvPr/>
        </p:nvPicPr>
        <p:blipFill>
          <a:blip r:embed="rId1"/>
          <a:stretch/>
        </p:blipFill>
        <p:spPr>
          <a:xfrm>
            <a:off x="6033960" y="5164200"/>
            <a:ext cx="1497240" cy="102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C:\Users\Tracy\AppData\Local\Microsoft\Windows\Temporary Internet Files\Content.IE5\J0KW0FG7\MCj02114920000[1].wmf"/>
          <p:cNvPicPr/>
          <p:nvPr/>
        </p:nvPicPr>
        <p:blipFill>
          <a:blip r:embed="rId2"/>
          <a:stretch/>
        </p:blipFill>
        <p:spPr>
          <a:xfrm>
            <a:off x="1386000" y="5162400"/>
            <a:ext cx="1218960" cy="118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C:\Users\Tracy\AppData\Local\Microsoft\Windows\Temporary Internet Files\Content.IE5\S5KGZE2D\MCj02115320000[1].wmf"/>
          <p:cNvPicPr/>
          <p:nvPr/>
        </p:nvPicPr>
        <p:blipFill>
          <a:blip r:embed="rId3"/>
          <a:stretch/>
        </p:blipFill>
        <p:spPr>
          <a:xfrm>
            <a:off x="3747960" y="5541840"/>
            <a:ext cx="114300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228600" y="914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228600" y="1630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YS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28600" y="4495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228600" y="2346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228600" y="30639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228600" y="3780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3809880" y="885960"/>
            <a:ext cx="510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 way with amino acid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the garbage ma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find everything in m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the “brain”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ll the “power” you’ll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found all “around” a plan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</cp:lastModifiedBy>
  <dcterms:modified xsi:type="dcterms:W3CDTF">2010-04-30T22:50:58Z</dcterms:modified>
  <cp:revision>16</cp:revision>
  <dc:subject/>
  <dc:title>Slide 1</dc:title>
</cp:coreProperties>
</file>