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790D-B996-4663-BCCC-8933624D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6AE6-F34B-4AB1-92A4-C9CAFEA9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C0EF-E4BC-42F9-B75E-09F67BE3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16F3-B823-4EEE-BF3B-3C6982BC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6CAC-E767-4D16-901F-F63B466D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BFC-8B0D-464B-8792-98CD9C01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E17-7A7B-4773-9F97-EC3D15A3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E2FF-CB1F-4F0D-9846-3CB3A191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2965-F215-4A95-84AA-23A66369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3B47-261F-469C-9ED1-2E84F019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A19D-FD11-48D0-B3BD-2807EA99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75E7-54B1-46B7-A061-5667F12F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707D-E3B1-4DF7-AC5F-31875047D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304920" y="838080"/>
            <a:ext cx="853416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Cooper Black"/>
              </a:rPr>
              <a:t>Cell Challeng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8120" y="5029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amble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C:\Users\Tracy\AppData\Local\Microsoft\Windows\Temporary Internet Files\Content.IE5\R7YBRGGQ\MCBD20088_0000[1].wmf"/>
          <p:cNvPicPr/>
          <p:nvPr/>
        </p:nvPicPr>
        <p:blipFill>
          <a:blip r:embed="rId2"/>
          <a:stretch/>
        </p:blipFill>
        <p:spPr>
          <a:xfrm>
            <a:off x="685800" y="4267080"/>
            <a:ext cx="19177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cell organelles using the clue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3809880" y="885960"/>
            <a:ext cx="510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a way with amino acid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the garbage ma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find everything in m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the “brain” of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all the “power” you’ll n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found all “around” a plan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5"/>
          <p:cNvSpPr/>
          <p:nvPr/>
        </p:nvSpPr>
        <p:spPr>
          <a:xfrm>
            <a:off x="152280" y="885960"/>
            <a:ext cx="358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OIESOMB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Y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O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SYMAO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ESLCU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NACITHI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LAW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C:\Users\Tracy\AppData\Local\Microsoft\Windows\Temporary Internet Files\Content.IE5\R7YBRGGQ\MCj02114940000[1].wmf"/>
          <p:cNvPicPr/>
          <p:nvPr/>
        </p:nvPicPr>
        <p:blipFill>
          <a:blip r:embed="rId1"/>
          <a:stretch/>
        </p:blipFill>
        <p:spPr>
          <a:xfrm>
            <a:off x="6033960" y="5164200"/>
            <a:ext cx="1497240" cy="1028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C:\Users\Tracy\AppData\Local\Microsoft\Windows\Temporary Internet Files\Content.IE5\J0KW0FG7\MCj02114920000[1].wmf"/>
          <p:cNvPicPr/>
          <p:nvPr/>
        </p:nvPicPr>
        <p:blipFill>
          <a:blip r:embed="rId2"/>
          <a:stretch/>
        </p:blipFill>
        <p:spPr>
          <a:xfrm>
            <a:off x="1386000" y="5162400"/>
            <a:ext cx="1218960" cy="118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C:\Users\Tracy\AppData\Local\Microsoft\Windows\Temporary Internet Files\Content.IE5\S5KGZE2D\MCj02115320000[1].wmf"/>
          <p:cNvPicPr/>
          <p:nvPr/>
        </p:nvPicPr>
        <p:blipFill>
          <a:blip r:embed="rId3"/>
          <a:stretch/>
        </p:blipFill>
        <p:spPr>
          <a:xfrm>
            <a:off x="3747960" y="5541840"/>
            <a:ext cx="114300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228600" y="914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228600" y="16304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LYS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228600" y="44956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228600" y="2346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228600" y="30639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228600" y="3780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MITOCH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4"/>
          <p:cNvSpPr/>
          <p:nvPr/>
        </p:nvSpPr>
        <p:spPr>
          <a:xfrm>
            <a:off x="3809880" y="885960"/>
            <a:ext cx="510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a way with amino acid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the garbage ma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find everything in m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the “brain” of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all the “power” you’ll n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found all “around” a plan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</cp:lastModifiedBy>
  <dcterms:modified xsi:type="dcterms:W3CDTF">2010-04-30T22:50:58Z</dcterms:modified>
  <cp:revision>16</cp:revision>
  <dc:subject/>
  <dc:title>Slide 1</dc:title>
</cp:coreProperties>
</file>