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087-5D92-4E3E-BB7A-35BA2A11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42D-0F96-4E01-951D-EE56DCB1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044-28F8-497A-A56B-A20032D4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16D-A919-4DE4-BA08-381A9F1D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C7B-CF10-428A-8FE2-2972CF0B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CD9-3F58-4528-B026-93F9774F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59F-33F9-4D31-90C9-8A598C3E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D86-9854-42E1-B1C0-2607EC19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B39D-0214-48AC-ACAE-2B24E3C4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2C7-5FF4-47E7-9BCE-ACD04A4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CF3-9590-4BCA-B520-535AAE7D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B0C-B99D-4747-98D9-3B4045D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2EF3-C5C9-4D38-99E2-8EE21D6A2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natomy.iupui.edu/courses/histo_D502/D502f04/Labs.f04/muscle%20lab/s4140x.jpg" TargetMode="External"/><Relationship Id="rId2" Type="http://schemas.openxmlformats.org/officeDocument/2006/relationships/hyperlink" Target="http://www.fi.edu/learn/heart/blood/images/red-blood-cells.jpg" TargetMode="External"/><Relationship Id="rId3" Type="http://schemas.openxmlformats.org/officeDocument/2006/relationships/hyperlink" Target="http://farm3.static.flickr.com/2385/2671689453_05b92b56e6_o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304920" y="990720"/>
            <a:ext cx="853416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Cooper Black"/>
              </a:rPr>
              <a:t>What am I?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Cooper Black"/>
              <a:ea typeface="Cooper Black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8120" y="5029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tery Picture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C:\Users\Tracy\AppData\Local\Microsoft\Windows\Temporary Internet Files\Content.IE5\R7YBRGGQ\MCBD20088_0000[1].wmf"/>
          <p:cNvPicPr/>
          <p:nvPr/>
        </p:nvPicPr>
        <p:blipFill>
          <a:blip r:embed="rId2"/>
          <a:stretch/>
        </p:blipFill>
        <p:spPr>
          <a:xfrm>
            <a:off x="685800" y="426708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the cells in each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7"/>
          <p:cNvSpPr/>
          <p:nvPr/>
        </p:nvSpPr>
        <p:spPr>
          <a:xfrm>
            <a:off x="3200400" y="25146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Bloo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Blood C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rcRect l="14875" t="0" r="0" b="0"/>
          <a:stretch/>
        </p:blipFill>
        <p:spPr>
          <a:xfrm>
            <a:off x="228600" y="2651040"/>
            <a:ext cx="2179800" cy="192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2"/>
          <a:stretch/>
        </p:blipFill>
        <p:spPr>
          <a:xfrm>
            <a:off x="1397160" y="685800"/>
            <a:ext cx="2573280" cy="173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3"/>
          <a:stretch/>
        </p:blipFill>
        <p:spPr>
          <a:xfrm>
            <a:off x="1486080" y="4800600"/>
            <a:ext cx="23954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4"/>
          <a:stretch/>
        </p:blipFill>
        <p:spPr>
          <a:xfrm>
            <a:off x="5067360" y="48006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/>
          <p:cNvPicPr/>
          <p:nvPr/>
        </p:nvPicPr>
        <p:blipFill>
          <a:blip r:embed="rId5"/>
          <a:stretch/>
        </p:blipFill>
        <p:spPr>
          <a:xfrm>
            <a:off x="4983120" y="685800"/>
            <a:ext cx="2606760" cy="173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6"/>
          <a:srcRect l="19834" t="13361" r="13361" b="29860"/>
          <a:stretch/>
        </p:blipFill>
        <p:spPr>
          <a:xfrm>
            <a:off x="6472080" y="2606760"/>
            <a:ext cx="2367000" cy="20113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6" descr=""/>
          <p:cNvPicPr/>
          <p:nvPr/>
        </p:nvPicPr>
        <p:blipFill>
          <a:blip r:embed="rId7"/>
          <a:stretch/>
        </p:blipFill>
        <p:spPr>
          <a:xfrm>
            <a:off x="109440" y="963720"/>
            <a:ext cx="1359000" cy="110952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18" descr=""/>
          <p:cNvPicPr/>
          <p:nvPr/>
        </p:nvPicPr>
        <p:blipFill>
          <a:blip r:embed="rId8"/>
          <a:stretch/>
        </p:blipFill>
        <p:spPr>
          <a:xfrm>
            <a:off x="2077920" y="3017880"/>
            <a:ext cx="13906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19" descr=""/>
          <p:cNvPicPr/>
          <p:nvPr/>
        </p:nvPicPr>
        <p:blipFill>
          <a:blip r:embed="rId9"/>
          <a:stretch/>
        </p:blipFill>
        <p:spPr>
          <a:xfrm>
            <a:off x="171360" y="5078520"/>
            <a:ext cx="1389240" cy="11095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20" descr=""/>
          <p:cNvPicPr/>
          <p:nvPr/>
        </p:nvPicPr>
        <p:blipFill>
          <a:blip r:embed="rId10"/>
          <a:stretch/>
        </p:blipFill>
        <p:spPr>
          <a:xfrm>
            <a:off x="7412040" y="884160"/>
            <a:ext cx="1390680" cy="110988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1" descr=""/>
          <p:cNvPicPr/>
          <p:nvPr/>
        </p:nvPicPr>
        <p:blipFill>
          <a:blip r:embed="rId11"/>
          <a:stretch/>
        </p:blipFill>
        <p:spPr>
          <a:xfrm>
            <a:off x="5315040" y="2944800"/>
            <a:ext cx="1347840" cy="110952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2" descr=""/>
          <p:cNvPicPr/>
          <p:nvPr/>
        </p:nvPicPr>
        <p:blipFill>
          <a:blip r:embed="rId12"/>
          <a:stretch/>
        </p:blipFill>
        <p:spPr>
          <a:xfrm>
            <a:off x="7486560" y="4998960"/>
            <a:ext cx="13096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1"/>
          <a:stretch/>
        </p:blipFill>
        <p:spPr>
          <a:xfrm>
            <a:off x="1397160" y="685800"/>
            <a:ext cx="2573280" cy="173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/>
          <p:cNvPicPr/>
          <p:nvPr/>
        </p:nvPicPr>
        <p:blipFill>
          <a:blip r:embed="rId2"/>
          <a:stretch/>
        </p:blipFill>
        <p:spPr>
          <a:xfrm>
            <a:off x="1486080" y="4800600"/>
            <a:ext cx="2395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3"/>
          <a:stretch/>
        </p:blipFill>
        <p:spPr>
          <a:xfrm>
            <a:off x="5067360" y="48006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4"/>
          <a:stretch/>
        </p:blipFill>
        <p:spPr>
          <a:xfrm>
            <a:off x="4983120" y="685800"/>
            <a:ext cx="2606760" cy="173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5"/>
          <a:srcRect l="14875" t="0" r="0" b="0"/>
          <a:stretch/>
        </p:blipFill>
        <p:spPr>
          <a:xfrm>
            <a:off x="228600" y="2651040"/>
            <a:ext cx="2179800" cy="1920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6"/>
          <a:srcRect l="19834" t="13361" r="13361" b="29860"/>
          <a:stretch/>
        </p:blipFill>
        <p:spPr>
          <a:xfrm>
            <a:off x="6472080" y="2606760"/>
            <a:ext cx="2367000" cy="20113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16" descr=""/>
          <p:cNvPicPr/>
          <p:nvPr/>
        </p:nvPicPr>
        <p:blipFill>
          <a:blip r:embed="rId7"/>
          <a:stretch/>
        </p:blipFill>
        <p:spPr>
          <a:xfrm>
            <a:off x="109440" y="963720"/>
            <a:ext cx="1359000" cy="110952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18" descr=""/>
          <p:cNvPicPr/>
          <p:nvPr/>
        </p:nvPicPr>
        <p:blipFill>
          <a:blip r:embed="rId8"/>
          <a:stretch/>
        </p:blipFill>
        <p:spPr>
          <a:xfrm>
            <a:off x="2077920" y="3017880"/>
            <a:ext cx="1390680" cy="110952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19" descr=""/>
          <p:cNvPicPr/>
          <p:nvPr/>
        </p:nvPicPr>
        <p:blipFill>
          <a:blip r:embed="rId9"/>
          <a:stretch/>
        </p:blipFill>
        <p:spPr>
          <a:xfrm>
            <a:off x="171360" y="5078520"/>
            <a:ext cx="1389240" cy="110952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20" descr=""/>
          <p:cNvPicPr/>
          <p:nvPr/>
        </p:nvPicPr>
        <p:blipFill>
          <a:blip r:embed="rId10"/>
          <a:stretch/>
        </p:blipFill>
        <p:spPr>
          <a:xfrm>
            <a:off x="7412040" y="884160"/>
            <a:ext cx="1390680" cy="110988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21" descr=""/>
          <p:cNvPicPr/>
          <p:nvPr/>
        </p:nvPicPr>
        <p:blipFill>
          <a:blip r:embed="rId11"/>
          <a:stretch/>
        </p:blipFill>
        <p:spPr>
          <a:xfrm>
            <a:off x="5315040" y="2944800"/>
            <a:ext cx="1347840" cy="110952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2" descr=""/>
          <p:cNvPicPr/>
          <p:nvPr/>
        </p:nvPicPr>
        <p:blipFill>
          <a:blip r:embed="rId12"/>
          <a:stretch/>
        </p:blipFill>
        <p:spPr>
          <a:xfrm>
            <a:off x="7486560" y="4998960"/>
            <a:ext cx="1309680" cy="1109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17"/>
          <p:cNvSpPr/>
          <p:nvPr/>
        </p:nvSpPr>
        <p:spPr>
          <a:xfrm>
            <a:off x="2514600" y="3276720"/>
            <a:ext cx="1219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543800" y="5334120"/>
            <a:ext cx="99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76320" y="91440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29200" y="3048120"/>
            <a:ext cx="129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304920" y="5334120"/>
            <a:ext cx="1143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7696080" y="1066680"/>
            <a:ext cx="99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28600" y="30492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 Credi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Cells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atomy.iupui.edu/courses/histo_D502/D502f04/Labs.f04/muscle%20lab/s4140x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Blood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.edu/learn/heart/blood/images/red-blood-cell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Blood Ce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arm3.static.flickr.com/2385/2671689453_05b92b56e6_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oxnews.com/images/325524/1_61_stemcells320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e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ist.gov/public_affairs/images/06MSEL011_BoneCementCells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rc-cnrc.gc.ca/images/education/pl_nerv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</cp:lastModifiedBy>
  <dcterms:modified xsi:type="dcterms:W3CDTF">2009-04-03T23:59:27Z</dcterms:modified>
  <cp:revision>26</cp:revision>
  <dc:subject/>
  <dc:title>Slide 1</dc:title>
</cp:coreProperties>
</file>