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CCEA-66FE-4AEF-B6CB-F5107E94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7E3C-E32E-40DC-8455-07BDB719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373C-A335-449A-AFC1-A5F9D7AD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848-4D6B-4495-8562-5C6E7CD2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7AC-C920-4435-A570-4B92B7B9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0F26-C1C5-4E47-8BC4-070F924F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DACA-0C6C-4568-9B1D-AF2007F0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AF0D-8878-4C39-B468-17055B1E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2B89-0021-406A-9030-5092F4D0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B75-03BC-46F3-B104-7B7C7CD6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0810-FB05-4609-977F-AAFC2423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7A6-D5C6-4A1C-8196-12E66213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DEA2-8BB6-4B11-B9A7-BB06351E3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280" y="762120"/>
            <a:ext cx="8534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66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Taking Up Space!</a:t>
            </a:r>
            <a:endParaRPr b="0" lang="en-US" sz="1800" spc="1" strike="noStrike">
              <a:ln w="38160">
                <a:solidFill>
                  <a:srgbClr val="9966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50292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olume Challenge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9880" y="6521400"/>
            <a:ext cx="83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7920" y="4330800"/>
            <a:ext cx="23508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720"/>
            <a:ext cx="9144000" cy="1190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Times New Roman"/>
              </a:rPr>
              <a:t>Determine the volume of this cu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572000" cy="3751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2895480" y="205704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8" idx="1"/>
            <a:endCxn id="48" idx="1"/>
          </p:cNvCxnSpPr>
          <p:nvPr/>
        </p:nvCxnSpPr>
        <p:spPr>
          <a:xfrm>
            <a:off x="2437920" y="40860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971800" y="5105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2895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362800">
            <a:off x="312444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7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2036880" y="3679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7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701000">
            <a:off x="2972880" y="5486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7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-61200"/>
            <a:ext cx="9144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answer is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685800"/>
            <a:ext cx="84582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Volume = length x width x height     </a:t>
            </a: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l  = 5.7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w = 5.7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h  = 5.7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V  =  5.7 cm x 5.7 cm x 5.7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      </a:t>
            </a: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V  =  185.19 cm</a:t>
            </a:r>
            <a:r>
              <a:rPr b="0" lang="en-US" sz="3200" spc="-1" strike="noStrike" baseline="30000">
                <a:solidFill>
                  <a:srgbClr val="99660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477120" y="4665600"/>
            <a:ext cx="266688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2T20:08:31Z</dcterms:modified>
  <cp:revision>32</cp:revision>
  <dc:subject/>
  <dc:title>Slide 1</dc:title>
</cp:coreProperties>
</file>