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C6E0-0C89-4523-A06E-08D4CE2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D33-2CC1-4E93-9F5B-4155D8D9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3DE-399B-4FE8-A226-95690FD9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FFF-E33C-4D21-BD4C-B9006C49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0DF-E6DF-48E9-A4F0-D73A0CFE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9B0-004B-4D99-BC82-CD0BD977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001-2B85-466D-8605-E6290A2A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083-46A7-41E2-B0BE-E3F670BA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735-AA7C-4854-88CF-B93909CF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B0F-93E8-46A4-A99E-8D57AD17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EEB-FA55-4F6D-8919-32F7573F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68A-86EE-4C98-8FF9-ECD414A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24C6-DD45-4BFD-86DF-CDBB2C70F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76212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Taking Up Space!</a:t>
            </a:r>
            <a:endParaRPr b="0" lang="en-US" sz="1800" spc="1" strike="noStrike">
              <a:ln w="38160">
                <a:solidFill>
                  <a:srgbClr val="9966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5029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 Challenge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988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cistartlogo2"/>
          <p:cNvPicPr/>
          <p:nvPr/>
        </p:nvPicPr>
        <p:blipFill>
          <a:blip r:embed="rId1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7920" y="4330800"/>
            <a:ext cx="23508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20"/>
            <a:ext cx="9144000" cy="1190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Determine the volume of this cu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572000" cy="3751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2895480" y="20570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8" idx="1"/>
            <a:endCxn id="48" idx="1"/>
          </p:cNvCxnSpPr>
          <p:nvPr/>
        </p:nvCxnSpPr>
        <p:spPr>
          <a:xfrm>
            <a:off x="2437920" y="4086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971800" y="5105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8954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362800">
            <a:off x="3124440" y="1905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2036880" y="3679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701000">
            <a:off x="2972880" y="548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61200"/>
            <a:ext cx="9144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nswer is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8580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Volume = length x width x height   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l  =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w =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h  =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V  =  5.7 cm x 5.7 cm x 5.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   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996600"/>
                </a:solidFill>
                <a:latin typeface="Arial Black"/>
              </a:rPr>
              <a:t>V  =  185.19 cm</a:t>
            </a:r>
            <a:r>
              <a:rPr b="0" lang="en-US" sz="3200" spc="-1" strike="noStrike" baseline="30000">
                <a:solidFill>
                  <a:srgbClr val="9966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7120" y="4665600"/>
            <a:ext cx="26668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2T20:08:31Z</dcterms:modified>
  <cp:revision>32</cp:revision>
  <dc:subject/>
  <dc:title>Slide 1</dc:title>
</cp:coreProperties>
</file>