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23E-5948-417A-B206-0D34BF1F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ABB-6A60-4060-8752-307F485C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604-03C1-4556-B459-3A071CE8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9D9-FC46-4319-A88A-CC11B21A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A62-07F3-4235-940E-9DCDD5A5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E13-9676-41EE-9625-4280CD3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3FE-507D-4A1A-A4DE-A286300D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1E3-3777-4A4D-8095-7CB8B71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25B-571C-40C1-B47B-203E616D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4D0-A904-4F85-911E-B2F41A5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187-E864-4E11-84F6-3BD2A28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0C0-E8C3-4544-8085-08C8502A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1AFD-FBC7-4ED8-9F9D-8C809580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9999"/>
                  </a:solidFill>
                  <a:miter/>
                </a:ln>
                <a:solidFill>
                  <a:srgbClr val="ff9966"/>
                </a:solidFill>
                <a:latin typeface="Cooper Black"/>
              </a:rPr>
              <a:t>Under Pressure</a:t>
            </a:r>
            <a:endParaRPr b="0" lang="en-US" sz="1800" spc="1" strike="noStrike">
              <a:ln w="38160">
                <a:solidFill>
                  <a:srgbClr val="009999"/>
                </a:solidFill>
                <a:miter/>
              </a:ln>
              <a:solidFill>
                <a:srgbClr val="ff9966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7431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457200"/>
            <a:ext cx="9144000" cy="136728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plain how breathing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66092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58332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llustration from http://hyperphysics.phy-astr.gsu.edu/Hbase/biology/imgbio/lungm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33720"/>
            <a:ext cx="46483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following in   your 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phragm, pressure, 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7212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58332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llustration from http://hyperphysics.phy-astr.gsu.edu/Hbase/biology/imgbio/lungm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752480"/>
            <a:ext cx="2438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phragm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reates mor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pressure in the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fills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371600"/>
            <a:ext cx="304560" cy="4648320"/>
          </a:xfrm>
          <a:custGeom>
            <a:avLst/>
            <a:gdLst>
              <a:gd name="textAreaLeft" fmla="*/ 0 w 304560"/>
              <a:gd name="textAreaRight" fmla="*/ 109800 w 30456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1905120"/>
            <a:ext cx="2362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phragm rel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reates l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essure in the ca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leaves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219320"/>
            <a:ext cx="533520" cy="4800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21:13Z</dcterms:modified>
  <cp:revision>74</cp:revision>
  <dc:subject/>
  <dc:title>Slide 1</dc:title>
</cp:coreProperties>
</file>