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DC4A-9885-4045-A27A-0298883B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F6D2-5D2F-480C-A80E-C6F88305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D178-C7EE-442A-9301-1BBD1061F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0A23-1901-46CD-B771-BBB6C2207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4602-4694-4E66-9712-684FCDF2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65AD-4B1F-4CA6-8C89-9A4B2742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03C3-501B-45D9-A1F4-4B369054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0404-6C5A-41E9-89BE-6EAF452D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170D-4722-4ECC-9F85-91C68062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2AC7-B117-4EA7-97F0-FA9EA26A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B7B3-E9B8-40CD-8A79-6D4DB448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E022-5339-43C4-856F-028B1DEB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11B6-45C5-44CF-9310-1175B38B7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45720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piratory System #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. Bryant WSMS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280" y="533520"/>
            <a:ext cx="876312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9999"/>
                  </a:solidFill>
                  <a:miter/>
                </a:ln>
                <a:solidFill>
                  <a:srgbClr val="ff9966"/>
                </a:solidFill>
                <a:latin typeface="Cooper Black"/>
              </a:rPr>
              <a:t>Under Pressure</a:t>
            </a:r>
            <a:endParaRPr b="0" lang="en-US" sz="1800" spc="1" strike="noStrike">
              <a:ln w="38160">
                <a:solidFill>
                  <a:srgbClr val="009999"/>
                </a:solidFill>
                <a:miter/>
              </a:ln>
              <a:solidFill>
                <a:srgbClr val="ff9966"/>
              </a:solidFill>
              <a:latin typeface="Cooper Black"/>
              <a:ea typeface="Cooper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95280" y="4724280"/>
            <a:ext cx="174312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-457200"/>
            <a:ext cx="9144000" cy="1367280"/>
          </a:xfrm>
          <a:prstGeom prst="rect">
            <a:avLst/>
          </a:prstGeom>
          <a:solidFill>
            <a:srgbClr val="ff7c80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xplain how breathing occu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1240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6216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191120" y="990720"/>
            <a:ext cx="4660920" cy="5486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280" y="6583320"/>
            <a:ext cx="632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llustration from http://hyperphysics.phy-astr.gsu.edu/Hbase/biology/imgbio/lungmod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133720"/>
            <a:ext cx="464832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the following in   your explan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phragm, pressure, 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240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6216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14600" y="1143000"/>
            <a:ext cx="4272120" cy="5029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2280" y="6583320"/>
            <a:ext cx="632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llustration from http://hyperphysics.phy-astr.gsu.edu/Hbase/biology/imgbio/lungmod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1752480"/>
            <a:ext cx="24386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aphragm contr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reates more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pressure in the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fills the lu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1371600"/>
            <a:ext cx="304560" cy="4648320"/>
          </a:xfrm>
          <a:custGeom>
            <a:avLst/>
            <a:gdLst>
              <a:gd name="textAreaLeft" fmla="*/ 0 w 304560"/>
              <a:gd name="textAreaRight" fmla="*/ 109800 w 30456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1905120"/>
            <a:ext cx="23623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aphragm rel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reates l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ressure in the cav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leaves the lu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53080" y="1219320"/>
            <a:ext cx="533520" cy="4800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124920 h 4800600"/>
              <a:gd name="textAreaBottom" fmla="*/ 4675680 h 480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7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7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3-25T21:21:13Z</dcterms:modified>
  <cp:revision>74</cp:revision>
  <dc:subject/>
  <dc:title>Slide 1</dc:title>
</cp:coreProperties>
</file>