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3F6-2DA9-499F-B5D4-81ACA7C6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5C4-FED7-4027-8E68-0A47B74F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803-AC44-478C-9CC9-5D7FA449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95F-C47E-43EE-BB4A-1C37F5ED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760-9E9E-4E45-945B-9D76666F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F89-A0AE-4924-B6CC-581E6B0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EDA-DDB5-4AB6-983C-F5BE595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D0E-2455-4883-94AA-E237ED47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950-10BD-46D3-BDAB-A641020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73D-C088-4895-A57A-083EAFA3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388-3294-41E8-A90A-22553F2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575-25E7-40B1-98DE-4F62FEFD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639C-8262-46F1-BEC0-1A55F39F0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9966"/>
                  </a:solidFill>
                  <a:miter/>
                </a:ln>
                <a:solidFill>
                  <a:srgbClr val="bbe0e3"/>
                </a:solidFill>
                <a:latin typeface="Cooper Black"/>
              </a:rPr>
              <a:t>Not Just Balloons</a:t>
            </a:r>
            <a:endParaRPr b="0" lang="en-US" sz="1800" spc="1" strike="noStrike">
              <a:ln w="38160">
                <a:solidFill>
                  <a:srgbClr val="ff9966"/>
                </a:solidFill>
                <a:miter/>
              </a:ln>
              <a:solidFill>
                <a:srgbClr val="bbe0e3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2176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457200"/>
            <a:ext cx="9144000" cy="1806120"/>
          </a:xfrm>
          <a:prstGeom prst="rect">
            <a:avLst/>
          </a:prstGeom>
          <a:solidFill>
            <a:srgbClr val="bbe0e3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abel each component and describe what is occurring in both mode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0516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95480" y="6216480"/>
            <a:ext cx="381024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4952880"/>
            <a:ext cx="19810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057400"/>
            <a:ext cx="533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057400"/>
            <a:ext cx="609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057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31560" y="19810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048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669000">
            <a:off x="2133360" y="3352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1600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18288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251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238600">
            <a:off x="6095880" y="29714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5257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105800">
            <a:off x="6471720" y="5281200"/>
            <a:ext cx="838440" cy="228600"/>
          </a:xfrm>
          <a:prstGeom prst="leftArrow">
            <a:avLst>
              <a:gd name="adj1" fmla="val 50000"/>
              <a:gd name="adj2" fmla="val 9169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3360" y="6477120"/>
            <a:ext cx="38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llustration from http://www.funsci.com/fun3_en/exper1/exper1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280"/>
            <a:ext cx="6705720" cy="16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A - EXH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odel A the diaphragm is relaxing causing more pressure in the bottle, therefore air moves out of the ballo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105160" cy="4952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95480" y="6216480"/>
            <a:ext cx="381024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029200"/>
            <a:ext cx="198144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2057400"/>
            <a:ext cx="533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057400"/>
            <a:ext cx="609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7880" y="22096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669000">
            <a:off x="2057040" y="34290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98108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452800">
            <a:off x="6019560" y="304776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5257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105800">
            <a:off x="6471720" y="5281200"/>
            <a:ext cx="838440" cy="228600"/>
          </a:xfrm>
          <a:prstGeom prst="leftArrow">
            <a:avLst>
              <a:gd name="adj1" fmla="val 50000"/>
              <a:gd name="adj2" fmla="val 9169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" y="6613560"/>
            <a:ext cx="38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llustration from http://www.funsci.com/fun3_en/exper1/exper1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486400"/>
            <a:ext cx="6019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B - INH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odel B the diaphragm is contracting causing less pressure in the bottle, therefore air moves into the ballo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20:05Z</dcterms:modified>
  <cp:revision>72</cp:revision>
  <dc:subject/>
  <dc:title>Slide 1</dc:title>
</cp:coreProperties>
</file>