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9F0-36F9-412B-812B-254197DB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CEF-9EE5-4F5F-B8E4-DFFD633A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6534-C6C5-4403-8A41-DA2CCF82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041-E2CD-4579-8D87-5EC07EC0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FCC-1D92-4FA0-B8E5-3BCE9525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C94-4379-4011-9253-2EA73769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7CE-3F34-420C-B6CE-767D9DB8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837-0282-4EE0-ADA5-B340BAB1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9A0-47ED-40C7-9E3B-24362D9F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7BC-D017-4BFF-9050-54805AC9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B6C-2EE8-4BEB-B736-CB1AE40F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2CD-BC48-4957-9BF8-43EF2BE7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D8CD-6CB5-4525-ABB3-20F9FF200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ory System 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. Bryant WSM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5335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9966"/>
                  </a:solidFill>
                  <a:miter/>
                </a:ln>
                <a:solidFill>
                  <a:srgbClr val="bbe0e3"/>
                </a:solidFill>
                <a:latin typeface="Cooper Black"/>
              </a:rPr>
              <a:t>Not Just Balloons</a:t>
            </a:r>
            <a:endParaRPr b="0" lang="en-US" sz="1800" spc="1" strike="noStrike">
              <a:ln w="38160">
                <a:solidFill>
                  <a:srgbClr val="ff9966"/>
                </a:solidFill>
                <a:miter/>
              </a:ln>
              <a:solidFill>
                <a:srgbClr val="bbe0e3"/>
              </a:solidFill>
              <a:latin typeface="Cooper Black"/>
              <a:ea typeface="Cooper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4343400"/>
            <a:ext cx="2176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-457200"/>
            <a:ext cx="9144000" cy="1806120"/>
          </a:xfrm>
          <a:prstGeom prst="rect">
            <a:avLst/>
          </a:prstGeom>
          <a:solidFill>
            <a:srgbClr val="bbe0e3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Label each component and describe what is occurring in both mode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105160" cy="5105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95480" y="6216480"/>
            <a:ext cx="381024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4952880"/>
            <a:ext cx="198108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2057400"/>
            <a:ext cx="5335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2057400"/>
            <a:ext cx="609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0574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Model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31560" y="198108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Model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3048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669000">
            <a:off x="2133360" y="33526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1600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182880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2514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0238600">
            <a:off x="6095880" y="297144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52578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105800">
            <a:off x="6471720" y="5281200"/>
            <a:ext cx="838440" cy="228600"/>
          </a:xfrm>
          <a:prstGeom prst="leftArrow">
            <a:avLst>
              <a:gd name="adj1" fmla="val 50000"/>
              <a:gd name="adj2" fmla="val 9169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3360" y="6477120"/>
            <a:ext cx="38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llustration from http://www.funsci.com/fun3_en/exper1/exper1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52280"/>
            <a:ext cx="6705720" cy="16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A - EXH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model A the diaphragm is relaxing causing more pressure in the bottle, therefore air moves out of the ballo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5105160" cy="4952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895480" y="6216480"/>
            <a:ext cx="381024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5029200"/>
            <a:ext cx="198144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2057400"/>
            <a:ext cx="5335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2057400"/>
            <a:ext cx="609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286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Model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7880" y="220968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Model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669000">
            <a:off x="2057040" y="34290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1905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198108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n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0452800">
            <a:off x="6019560" y="304776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8880" y="5257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105800">
            <a:off x="6471720" y="5281200"/>
            <a:ext cx="838440" cy="228600"/>
          </a:xfrm>
          <a:prstGeom prst="leftArrow">
            <a:avLst>
              <a:gd name="adj1" fmla="val 50000"/>
              <a:gd name="adj2" fmla="val 91693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" y="6613560"/>
            <a:ext cx="38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llustration from http://www.funsci.com/fun3_en/exper1/exper1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486400"/>
            <a:ext cx="60199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el B - INH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model B the diaphragm is contracting causing less pressure in the bottle, therefore air moves into the ballo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3-25T21:20:05Z</dcterms:modified>
  <cp:revision>72</cp:revision>
  <dc:subject/>
  <dc:title>Slide 1</dc:title>
</cp:coreProperties>
</file>