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088-5E21-40A8-8C40-CFBAFC05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988-E827-45CB-9C61-EE03529B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25D-5C85-435E-ABE1-70C02A69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162-5F15-4AAB-9402-4E820DE0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44D-92A1-4EE5-9384-1C7FB4D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960-9D9C-4AF1-8254-5064E905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157-096B-4294-AD84-53A55895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9EE-F37D-4217-815C-5E5138F7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660-2C2D-45E1-B8AB-2E8A4C9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5B4-A679-4CBF-BBA5-0A663D7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873-17C0-4F16-97D0-CD01BF31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1A5-3686-4A25-8F80-34DD436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B2E4-7D67-4934-827B-B7A39E95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bbe0e3"/>
                </a:solidFill>
                <a:latin typeface="Cooper Black"/>
              </a:rPr>
              <a:t>Air Flow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bbe0e3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609480"/>
            <a:ext cx="9144000" cy="1927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dentify the components (par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f the respiratory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lungs diagram"/>
          <p:cNvPicPr/>
          <p:nvPr/>
        </p:nvPicPr>
        <p:blipFill>
          <a:blip r:embed="rId1"/>
          <a:stretch/>
        </p:blipFill>
        <p:spPr>
          <a:xfrm>
            <a:off x="1828800" y="1246320"/>
            <a:ext cx="5791320" cy="561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198108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21337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12408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62164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457200"/>
            <a:ext cx="9144000" cy="1284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components (parts)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lungs diagram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0" y="6643080"/>
            <a:ext cx="164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mage from http://kidshealth.or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7524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9144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9810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274320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624852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13:37Z</dcterms:modified>
  <cp:revision>69</cp:revision>
  <dc:subject/>
  <dc:title>Slide 1</dc:title>
</cp:coreProperties>
</file>