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D69-57B9-4E4F-AEB4-984BACFB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8BC-180A-4AD3-B79D-938E6EB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B0A-D738-466A-A640-21F78504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3F5-4FB0-4787-953A-5A529136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BCA-9D2D-4594-90A2-385987DD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7A5-2E6E-4478-8B73-C834B43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64A-23DE-41B7-A454-7CAC4EB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961-257B-4007-A3F4-1930220A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B7C-2B57-4D24-AB2D-781CFFBF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7D7-5E4C-4E84-8405-0799DDC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3F2-DB85-45E1-923D-4432E5B4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845-6100-4A87-BCE9-EFD8C4AB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8B6E-FE67-4319-9D03-B722AC72D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iratory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. Bryant WSMS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7631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bbe0e3"/>
                </a:solidFill>
                <a:latin typeface="Cooper Black"/>
              </a:rPr>
              <a:t>Air Flow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bbe0e3"/>
              </a:solidFill>
              <a:latin typeface="Cooper Black"/>
              <a:ea typeface="Cooper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-609480"/>
            <a:ext cx="9144000" cy="19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dentify the components (pa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f the respiratory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2164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lungs diagram"/>
          <p:cNvPicPr/>
          <p:nvPr/>
        </p:nvPicPr>
        <p:blipFill>
          <a:blip r:embed="rId1"/>
          <a:stretch/>
        </p:blipFill>
        <p:spPr>
          <a:xfrm>
            <a:off x="1828800" y="1246320"/>
            <a:ext cx="5791320" cy="561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198108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213372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12408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62164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457200"/>
            <a:ext cx="9144000" cy="1284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 components (parts) are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lungs diagram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0" y="6643080"/>
            <a:ext cx="164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Image from http://kidshealth.or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7524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9144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19810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74320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24852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3-25T21:13:37Z</dcterms:modified>
  <cp:revision>69</cp:revision>
  <dc:subject/>
  <dc:title>Slide 1</dc:title>
</cp:coreProperties>
</file>