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FD32-E795-4401-92C1-5792A75B2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7EF6-1BD2-424A-9377-2217370E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F6F9-88D2-487A-9172-B872FB56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B3AB-C425-4ECA-AFAC-CB7EE6BD2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4B45-4C5B-4AF3-AC10-3C9B9BFE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04B5-C655-4D88-B61A-BB959EC8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3C14-B052-4CA3-AC41-3DB83FC7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85F3-89EF-480B-A36E-FF0825FA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80D8-7301-4BCB-99E2-4BCA65EB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708C-2E9E-498C-A452-46309052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8810-42A6-4F0A-84D5-DEBDA961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A44C-23DF-44A1-8F18-25B0F6B3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7345-795A-412E-8676-49162D3F5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unusualphobias.com/Breathing.jp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45720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piratory System #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. Bryant WSMS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2280" y="533520"/>
            <a:ext cx="876312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000066"/>
                </a:solidFill>
                <a:latin typeface="Cooper Black"/>
              </a:rPr>
              <a:t>Not Just Balloons</a:t>
            </a:r>
            <a:endParaRPr b="0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000066"/>
              </a:solidFill>
              <a:latin typeface="Cooper Black"/>
              <a:ea typeface="Cooper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52480" y="4495680"/>
            <a:ext cx="1306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-609480"/>
            <a:ext cx="9144000" cy="825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iscuss  the following . . 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1240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6216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160020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breath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5720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respi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29200" y="45720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4800" y="6477120"/>
            <a:ext cx="287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s from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unusualphobias.com/Breathing.jpg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sgfl.org.uk/berryhillscience/Year8/8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724280" y="4038480"/>
            <a:ext cx="364824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-457200"/>
            <a:ext cx="9144000" cy="128484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The components (parts) are . 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1752480"/>
            <a:ext cx="1828800" cy="147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1240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00200" y="3809880"/>
            <a:ext cx="2971800" cy="2673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9320" y="6643800"/>
            <a:ext cx="405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from http://bioweb.wku.edu/courses/BIOL115/Wyatt/Metabolism/Respiration.g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105520" y="990720"/>
            <a:ext cx="3886200" cy="3147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257800" y="685800"/>
            <a:ext cx="364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from http://www.oum.ox.ac.uk/thezone/animals/life/images/breathe.g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685800"/>
            <a:ext cx="5029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spir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chemical process where glucose and oxygen are exchanged for carbon dioxide and water providing cells with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8360" y="4419720"/>
            <a:ext cx="399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reath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nh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exhaling of 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as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00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becky</cp:lastModifiedBy>
  <dcterms:modified xsi:type="dcterms:W3CDTF">2009-03-26T01:12:04Z</dcterms:modified>
  <cp:revision>68</cp:revision>
  <dc:subject/>
  <dc:title>Slide 1</dc:title>
</cp:coreProperties>
</file>