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324-D83D-434F-83A4-650DB29B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3C0-4EBB-42A9-A589-F4E956A2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BA0-7C13-49C0-8C76-8598C24D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DA4-CA4C-406E-A134-0BAFF3BD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E17-F16D-4AF8-A43D-58338D2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944-0953-44B2-A293-AE5362B6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D4C-BC84-4F2F-9111-84C981CD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E58-C496-431E-BFA3-724FD89A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0D6-DE6C-4068-BE18-DF09DAAA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93D-D002-4187-BFA5-4B8B18A0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D1D-72B6-41BC-9E31-8D4577E9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AC8-B55C-40D9-BF23-43BCA17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C0BD-A14F-4DD8-BE42-E4E456DF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unusualphobias.com/Breathing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66"/>
                </a:solidFill>
                <a:latin typeface="Cooper Black"/>
              </a:rPr>
              <a:t>Not Just Balloons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66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4495680"/>
            <a:ext cx="1306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609480"/>
            <a:ext cx="914400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scuss  the following . .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600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572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800" y="6477120"/>
            <a:ext cx="28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fro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nusualphobias.com/Breathing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sgfl.org.uk/berryhillscience/Year8/8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36482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457200"/>
            <a:ext cx="9144000" cy="1284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components (parts)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752480"/>
            <a:ext cx="1828800" cy="147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2971800" cy="267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9320" y="6643800"/>
            <a:ext cx="405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from http://bioweb.wku.edu/courses/BIOL115/Wyatt/Metabolism/Respiration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3886200" cy="3147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685800"/>
            <a:ext cx="36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from http://www.oum.ox.ac.uk/thezone/animals/life/images/breathe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85800"/>
            <a:ext cx="5029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pi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hemical process where glucose and oxygen are exchanged for carbon dioxide and water providing cells with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41972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reath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exhaling of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6T01:12:04Z</dcterms:modified>
  <cp:revision>68</cp:revision>
  <dc:subject/>
  <dc:title>Slide 1</dc:title>
</cp:coreProperties>
</file>