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6F06-5B9D-4E98-8CCB-BF772DB2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0905-EA0D-47AD-973F-92DC7B3A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C49F-F1DE-4BBA-BDE5-FCA3A83F9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BAB3-C75C-49C6-AE81-61C5C2742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49A2-1EFB-4C9E-BE40-580C8D25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14CA-DB54-4F3F-8444-432F035F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7DE2-DA7A-4565-B317-C0F6D16C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9132-4096-48C2-8422-B558BC0A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D4BF-26C1-4458-887C-DD1BD0C5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4E94-C3A9-4095-AFDD-6C4B9E1D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5A0C-5673-45B8-BDB3-3299D68D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4B2F-D3E5-41A5-B4BD-D5BD13EC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384A-3653-4624-AB24-9DE7994CC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45720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piratory System #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. Bryant WSMS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2280" y="533520"/>
            <a:ext cx="876312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66ff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In and Out</a:t>
            </a:r>
            <a:endParaRPr b="0" lang="en-US" sz="1800" spc="1" strike="noStrike">
              <a:ln w="38160">
                <a:solidFill>
                  <a:srgbClr val="ff66ff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464832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-380880"/>
            <a:ext cx="9144000" cy="2354760"/>
          </a:xfrm>
          <a:prstGeom prst="rect">
            <a:avLst/>
          </a:prstGeom>
          <a:solidFill>
            <a:srgbClr val="ff66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Describe the functions 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he respiratory syste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3962520"/>
            <a:ext cx="8534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___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___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733920" y="1905120"/>
            <a:ext cx="20574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-228600"/>
            <a:ext cx="9144000" cy="1498680"/>
          </a:xfrm>
          <a:prstGeom prst="rect">
            <a:avLst/>
          </a:prstGeom>
          <a:solidFill>
            <a:srgbClr val="ff66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he functions are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90920" y="3276720"/>
            <a:ext cx="3657600" cy="3581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1371600"/>
            <a:ext cx="8534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.   take in air – use 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2514600"/>
            <a:ext cx="8686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iminate was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(C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becky</cp:lastModifiedBy>
  <dcterms:modified xsi:type="dcterms:W3CDTF">2009-03-25T21:17:26Z</dcterms:modified>
  <cp:revision>65</cp:revision>
  <dc:subject/>
  <dc:title>Slide 1</dc:title>
</cp:coreProperties>
</file>