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967-D7D8-4054-8081-6A7B92EB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4F9-C919-4AC0-8E3B-0E33587B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FD7-7813-4D1F-94BF-815653EA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74E-E016-421C-BA02-82B5E305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86A-623B-495C-8892-13452BFC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248-BD9A-46FE-851A-2C8F753F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062-16C3-445B-B4D8-1E01DCB2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509-1158-40E6-8FB5-2A3F47F7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F17-A692-4EA2-BEA3-152DE12E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E64-0C61-40B1-88A8-17C1158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AD5-397C-4BAB-951A-D812BD0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DE6-6B0E-4CB4-A784-B38A079D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6AC2-CDCE-4690-9777-87E928FB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66ff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In and Out</a:t>
            </a:r>
            <a:endParaRPr b="0" lang="en-US" sz="1800" spc="1" strike="noStrike">
              <a:ln w="38160">
                <a:solidFill>
                  <a:srgbClr val="ff66ff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380880"/>
            <a:ext cx="9144000" cy="235476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escribe the functions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respiratory sy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96252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2057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228600"/>
            <a:ext cx="9144000" cy="1498680"/>
          </a:xfrm>
          <a:prstGeom prst="rect">
            <a:avLst/>
          </a:prstGeom>
          <a:solidFill>
            <a:srgbClr val="ff66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functions are . .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36576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1371600"/>
            <a:ext cx="8534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  take in air – use 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514600"/>
            <a:ext cx="8686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iminate was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5T21:17:26Z</dcterms:modified>
  <cp:revision>65</cp:revision>
  <dc:subject/>
  <dc:title>Slide 1</dc:title>
</cp:coreProperties>
</file>