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F75E-A818-467C-A342-2A1E16A3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949-A9D3-47AC-88B5-8600C5D3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9FD9-2208-4880-8986-4B27CBD0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5DC-C2B9-4048-857F-99E745F8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98A-F6BE-4355-8DDB-4301EAA3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9FF9-9466-4FFF-A5A8-4D690185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001-847C-4DEF-9CF6-6EB96AA9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83E-EF81-4690-8FCF-DAFB9444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103-BCDE-41E0-B6A0-78C46EF9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DA7F-F759-42FC-A1E0-9EEF0B56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4A5-220C-48C8-BF35-9BE60918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2D1-E2FB-4603-BDF7-A382FEC4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5263-001C-4891-BDB5-92FF87970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4479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8080"/>
                </a:solidFill>
                <a:latin typeface="Cooper Black"/>
              </a:rPr>
              <a:t>Name That Phase</a:t>
            </a:r>
            <a:endParaRPr b="0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80808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114800" y="5105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on Phase #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57400" y="4419720"/>
            <a:ext cx="175248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dentify the phase of the mo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990720"/>
            <a:ext cx="2590560" cy="2743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182880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1981080"/>
            <a:ext cx="554040" cy="63684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15200" y="2133720"/>
            <a:ext cx="81000" cy="32364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15238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19810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23623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819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00" y="404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114800"/>
            <a:ext cx="2514600" cy="2514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4724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105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548640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5867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487692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5029200"/>
            <a:ext cx="554040" cy="63648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5181480"/>
            <a:ext cx="81000" cy="32400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ubChord"/>
          <p:cNvSpPr/>
          <p:nvPr/>
        </p:nvSpPr>
        <p:spPr>
          <a:xfrm rot="2853600">
            <a:off x="6679080" y="315036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ubChord"/>
          <p:cNvSpPr/>
          <p:nvPr/>
        </p:nvSpPr>
        <p:spPr>
          <a:xfrm rot="2853600">
            <a:off x="7822080" y="566496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bChord"/>
          <p:cNvSpPr/>
          <p:nvPr/>
        </p:nvSpPr>
        <p:spPr>
          <a:xfrm rot="13370400">
            <a:off x="6705000" y="3123720"/>
            <a:ext cx="6094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ubChord"/>
          <p:cNvSpPr/>
          <p:nvPr/>
        </p:nvSpPr>
        <p:spPr>
          <a:xfrm rot="13370400">
            <a:off x="7848000" y="5638320"/>
            <a:ext cx="6094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dentify the phase of the mo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990720"/>
            <a:ext cx="2590560" cy="2743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182880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1981080"/>
            <a:ext cx="554040" cy="63684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2133720"/>
            <a:ext cx="81000" cy="32364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15238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19810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3623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2819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0" y="404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114800"/>
            <a:ext cx="2514600" cy="2514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4724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5105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548640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5867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487692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5029200"/>
            <a:ext cx="554040" cy="63648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5181480"/>
            <a:ext cx="81000" cy="32400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ubChord"/>
          <p:cNvSpPr/>
          <p:nvPr/>
        </p:nvSpPr>
        <p:spPr>
          <a:xfrm rot="2853600">
            <a:off x="6679080" y="315036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ubChord"/>
          <p:cNvSpPr/>
          <p:nvPr/>
        </p:nvSpPr>
        <p:spPr>
          <a:xfrm rot="2853600">
            <a:off x="7822080" y="566496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ubChord"/>
          <p:cNvSpPr/>
          <p:nvPr/>
        </p:nvSpPr>
        <p:spPr>
          <a:xfrm rot="13370400">
            <a:off x="6705000" y="3123720"/>
            <a:ext cx="6094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ubChord"/>
          <p:cNvSpPr/>
          <p:nvPr/>
        </p:nvSpPr>
        <p:spPr>
          <a:xfrm rot="13370400">
            <a:off x="7848000" y="5638320"/>
            <a:ext cx="6094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3040" y="990720"/>
            <a:ext cx="35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Quarter 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54600" y="396252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xing Gibbous 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23T12:15:11Z</dcterms:modified>
  <cp:revision>79</cp:revision>
  <dc:subject/>
  <dc:title>Slide 1</dc:title>
</cp:coreProperties>
</file>