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C20-F914-4292-BB1F-F6189630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0549-2E43-4C77-A346-22BA266A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CAB-DDB9-491C-8D28-CBC30C46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C95-5237-44D9-B510-71563D11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1722-A403-488D-8AEC-F532E389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EED-4860-482E-AE48-629C9D38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CEB-C654-4121-9D3E-99397A85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1EF-64F0-4DEE-8D53-852FBDCE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7D0-B1D3-4B8F-AB68-844C3E6A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430-447F-4661-A8B6-7A3AADFE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AED-AB91-44EB-81F0-C1188511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BA7-5B48-493C-9CE5-EFCDFB79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8F28-9A5D-476A-8FBB-5520DC9F1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14479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a50021"/>
                  </a:solidFill>
                  <a:miter/>
                </a:ln>
                <a:solidFill>
                  <a:srgbClr val="33ccff"/>
                </a:solidFill>
                <a:latin typeface="Cooper Black"/>
              </a:rPr>
              <a:t>Name That Phase</a:t>
            </a:r>
            <a:endParaRPr b="0" lang="en-US" sz="1800" spc="1" strike="noStrike">
              <a:ln w="38160">
                <a:solidFill>
                  <a:srgbClr val="a50021"/>
                </a:solidFill>
                <a:miter/>
              </a:ln>
              <a:solidFill>
                <a:srgbClr val="33ccff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114800" y="5105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on Phase #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81080" y="4343400"/>
            <a:ext cx="23623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dentify the phase of the mo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990720"/>
            <a:ext cx="2590560" cy="27432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182880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1981080"/>
            <a:ext cx="554040" cy="63684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15200" y="2133720"/>
            <a:ext cx="81000" cy="32364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15238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19810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23623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2819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90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00" y="4044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114800"/>
            <a:ext cx="2514600" cy="2514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4724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105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548640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5867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487692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5029200"/>
            <a:ext cx="554040" cy="63648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5181480"/>
            <a:ext cx="81000" cy="32400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ubChord"/>
          <p:cNvSpPr/>
          <p:nvPr/>
        </p:nvSpPr>
        <p:spPr>
          <a:xfrm rot="2853600">
            <a:off x="7594200" y="1016640"/>
            <a:ext cx="625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ubChord"/>
          <p:cNvSpPr/>
          <p:nvPr/>
        </p:nvSpPr>
        <p:spPr>
          <a:xfrm rot="2853600">
            <a:off x="5840640" y="5893560"/>
            <a:ext cx="62568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bChord"/>
          <p:cNvSpPr/>
          <p:nvPr/>
        </p:nvSpPr>
        <p:spPr>
          <a:xfrm rot="13370400">
            <a:off x="7619760" y="990360"/>
            <a:ext cx="6094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ubChord"/>
          <p:cNvSpPr/>
          <p:nvPr/>
        </p:nvSpPr>
        <p:spPr>
          <a:xfrm rot="13370400">
            <a:off x="5866920" y="5867280"/>
            <a:ext cx="60984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phases are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990720"/>
            <a:ext cx="2590560" cy="27432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182880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1981080"/>
            <a:ext cx="554040" cy="63684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2133720"/>
            <a:ext cx="81000" cy="32364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15238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19810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23623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2819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990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00" y="4044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114800"/>
            <a:ext cx="2514600" cy="2514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4724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5105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548640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5867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487692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5029200"/>
            <a:ext cx="554040" cy="63648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5181480"/>
            <a:ext cx="81000" cy="32400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9800" y="3173400"/>
            <a:ext cx="39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ing  Gibbous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31720" y="4191120"/>
            <a:ext cx="38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xing Crescent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ubChord"/>
          <p:cNvSpPr/>
          <p:nvPr/>
        </p:nvSpPr>
        <p:spPr>
          <a:xfrm rot="2853600">
            <a:off x="7593480" y="1092960"/>
            <a:ext cx="62568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ubChord"/>
          <p:cNvSpPr/>
          <p:nvPr/>
        </p:nvSpPr>
        <p:spPr>
          <a:xfrm rot="13370400">
            <a:off x="7619400" y="1066320"/>
            <a:ext cx="6094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ubChord"/>
          <p:cNvSpPr/>
          <p:nvPr/>
        </p:nvSpPr>
        <p:spPr>
          <a:xfrm rot="2853600">
            <a:off x="5689080" y="5817240"/>
            <a:ext cx="625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ubChord"/>
          <p:cNvSpPr/>
          <p:nvPr/>
        </p:nvSpPr>
        <p:spPr>
          <a:xfrm rot="13370400">
            <a:off x="5714640" y="5790960"/>
            <a:ext cx="6094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23T12:10:56Z</dcterms:modified>
  <cp:revision>78</cp:revision>
  <dc:subject/>
  <dc:title>Slide 1</dc:title>
</cp:coreProperties>
</file>