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0B35-FB62-40BB-A86E-87B0C9F9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A99-EF22-40E4-9533-6B19096D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526C-792A-4ABF-B1E5-683CD96D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E04-3EDA-46E3-A89D-F619754E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7E3-E02F-415A-83BC-2A4A17EB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A1E1-99E0-4980-922E-4E3C469A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52B-168F-41EF-B684-EC89A2AE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8FF-DAEE-47FC-A2D5-AFB8D602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36D-E964-4109-B442-90104115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7C6-F80B-44F3-A811-E52B071D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EA8-DBB8-48E4-B511-E946006A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C37-1E68-48B1-8CD1-CEBFA1D3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49F5-6EE4-40CE-8C9C-FC4494E80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1447920"/>
            <a:ext cx="7543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a50021"/>
                  </a:solidFill>
                  <a:miter/>
                </a:ln>
                <a:solidFill>
                  <a:srgbClr val="33ccff"/>
                </a:solidFill>
                <a:latin typeface="Cooper Black"/>
              </a:rPr>
              <a:t>Name That Phase</a:t>
            </a:r>
            <a:endParaRPr b="0" lang="en-US" sz="1800" spc="1" strike="noStrike">
              <a:ln w="38160">
                <a:solidFill>
                  <a:srgbClr val="a50021"/>
                </a:solidFill>
                <a:miter/>
              </a:ln>
              <a:solidFill>
                <a:srgbClr val="33ccff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114800" y="51055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on Phase #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04920" y="632448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81080" y="4343400"/>
            <a:ext cx="23623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dentify the phase of the mo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990720"/>
            <a:ext cx="2590560" cy="27432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182880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1981080"/>
            <a:ext cx="554040" cy="63684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15200" y="2133720"/>
            <a:ext cx="81000" cy="32364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15238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19810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23623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2819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90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00" y="4044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4114800"/>
            <a:ext cx="2514600" cy="2514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4724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105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548640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5867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487692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5029200"/>
            <a:ext cx="554040" cy="63648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5181480"/>
            <a:ext cx="81000" cy="32400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ubChord"/>
          <p:cNvSpPr/>
          <p:nvPr/>
        </p:nvSpPr>
        <p:spPr>
          <a:xfrm rot="2853600">
            <a:off x="7594200" y="1016640"/>
            <a:ext cx="625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ubChord"/>
          <p:cNvSpPr/>
          <p:nvPr/>
        </p:nvSpPr>
        <p:spPr>
          <a:xfrm rot="2853600">
            <a:off x="5840640" y="5893560"/>
            <a:ext cx="62568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ubChord"/>
          <p:cNvSpPr/>
          <p:nvPr/>
        </p:nvSpPr>
        <p:spPr>
          <a:xfrm rot="13370400">
            <a:off x="7619760" y="990360"/>
            <a:ext cx="6094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ubChord"/>
          <p:cNvSpPr/>
          <p:nvPr/>
        </p:nvSpPr>
        <p:spPr>
          <a:xfrm rot="13370400">
            <a:off x="5866920" y="5867280"/>
            <a:ext cx="60984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9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7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phases are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990720"/>
            <a:ext cx="2590560" cy="27432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182880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1981080"/>
            <a:ext cx="554040" cy="63684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2133720"/>
            <a:ext cx="81000" cy="32364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15238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19810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23623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2819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990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00" y="40449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114800"/>
            <a:ext cx="2514600" cy="2514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4724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510552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5486400"/>
            <a:ext cx="1067040" cy="152280"/>
          </a:xfrm>
          <a:prstGeom prst="rightArrow">
            <a:avLst>
              <a:gd name="adj1" fmla="val 50000"/>
              <a:gd name="adj2" fmla="val 1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58672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487692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5029200"/>
            <a:ext cx="554040" cy="636480"/>
          </a:xfrm>
          <a:custGeom>
            <a:avLst/>
            <a:gdLst/>
            <a:ahLst/>
            <a:rect l="l" t="t" r="r" b="b"/>
            <a:pathLst>
              <a:path w="349" h="401">
                <a:moveTo>
                  <a:pt x="16" y="0"/>
                </a:moveTo>
                <a:cubicBezTo>
                  <a:pt x="52" y="56"/>
                  <a:pt x="117" y="32"/>
                  <a:pt x="184" y="36"/>
                </a:cubicBezTo>
                <a:cubicBezTo>
                  <a:pt x="235" y="42"/>
                  <a:pt x="290" y="31"/>
                  <a:pt x="337" y="51"/>
                </a:cubicBezTo>
                <a:cubicBezTo>
                  <a:pt x="349" y="56"/>
                  <a:pt x="312" y="60"/>
                  <a:pt x="300" y="66"/>
                </a:cubicBezTo>
                <a:cubicBezTo>
                  <a:pt x="285" y="74"/>
                  <a:pt x="256" y="95"/>
                  <a:pt x="256" y="95"/>
                </a:cubicBezTo>
                <a:cubicBezTo>
                  <a:pt x="226" y="142"/>
                  <a:pt x="221" y="192"/>
                  <a:pt x="162" y="211"/>
                </a:cubicBezTo>
                <a:cubicBezTo>
                  <a:pt x="173" y="269"/>
                  <a:pt x="181" y="254"/>
                  <a:pt x="242" y="262"/>
                </a:cubicBezTo>
                <a:cubicBezTo>
                  <a:pt x="277" y="317"/>
                  <a:pt x="237" y="370"/>
                  <a:pt x="191" y="401"/>
                </a:cubicBezTo>
                <a:cubicBezTo>
                  <a:pt x="169" y="369"/>
                  <a:pt x="166" y="341"/>
                  <a:pt x="125" y="328"/>
                </a:cubicBezTo>
                <a:cubicBezTo>
                  <a:pt x="111" y="306"/>
                  <a:pt x="104" y="287"/>
                  <a:pt x="96" y="262"/>
                </a:cubicBezTo>
                <a:cubicBezTo>
                  <a:pt x="87" y="133"/>
                  <a:pt x="108" y="167"/>
                  <a:pt x="30" y="117"/>
                </a:cubicBezTo>
                <a:cubicBezTo>
                  <a:pt x="23" y="95"/>
                  <a:pt x="16" y="73"/>
                  <a:pt x="9" y="51"/>
                </a:cubicBezTo>
                <a:cubicBezTo>
                  <a:pt x="7" y="44"/>
                  <a:pt x="0" y="37"/>
                  <a:pt x="1" y="29"/>
                </a:cubicBezTo>
                <a:cubicBezTo>
                  <a:pt x="2" y="18"/>
                  <a:pt x="11" y="10"/>
                  <a:pt x="16" y="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5181480"/>
            <a:ext cx="81000" cy="324000"/>
          </a:xfrm>
          <a:custGeom>
            <a:avLst/>
            <a:gdLst/>
            <a:ahLst/>
            <a:rect l="l" t="t" r="r" b="b"/>
            <a:pathLst>
              <a:path w="51" h="204">
                <a:moveTo>
                  <a:pt x="51" y="0"/>
                </a:moveTo>
                <a:cubicBezTo>
                  <a:pt x="30" y="21"/>
                  <a:pt x="9" y="30"/>
                  <a:pt x="0" y="58"/>
                </a:cubicBezTo>
                <a:cubicBezTo>
                  <a:pt x="28" y="102"/>
                  <a:pt x="43" y="152"/>
                  <a:pt x="43" y="20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9800" y="3173400"/>
            <a:ext cx="39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ing  Gibbous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31720" y="4191120"/>
            <a:ext cx="38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xing Crescent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ubChord"/>
          <p:cNvSpPr/>
          <p:nvPr/>
        </p:nvSpPr>
        <p:spPr>
          <a:xfrm rot="2853600">
            <a:off x="7593480" y="1092960"/>
            <a:ext cx="62568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ubChord"/>
          <p:cNvSpPr/>
          <p:nvPr/>
        </p:nvSpPr>
        <p:spPr>
          <a:xfrm rot="13370400">
            <a:off x="7619400" y="1066320"/>
            <a:ext cx="6094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ubChord"/>
          <p:cNvSpPr/>
          <p:nvPr/>
        </p:nvSpPr>
        <p:spPr>
          <a:xfrm rot="2853600">
            <a:off x="5689080" y="5817240"/>
            <a:ext cx="625320" cy="573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ubChord"/>
          <p:cNvSpPr/>
          <p:nvPr/>
        </p:nvSpPr>
        <p:spPr>
          <a:xfrm rot="13370400">
            <a:off x="5714640" y="5790960"/>
            <a:ext cx="6094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2929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; Becky Bryant</dc:creator>
  <dc:description/>
  <dc:language>en-US</dc:language>
  <cp:lastModifiedBy>*</cp:lastModifiedBy>
  <dcterms:modified xsi:type="dcterms:W3CDTF">2009-03-23T12:10:56Z</dcterms:modified>
  <cp:revision>78</cp:revision>
  <dc:subject/>
  <dc:title>Slide 1</dc:title>
</cp:coreProperties>
</file>