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210-11EB-4DFD-BEBA-A2779551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959-A669-4C4B-A717-0589AEE3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D9C-C75A-48E6-AD5E-AE46B4C7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AA4C-4741-46A8-833B-0E782625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F1CC-A497-45B3-A892-0FD435F8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ACE-5A49-4E15-908A-C3919C23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DDD-98E3-400E-8E4B-3D1CF2F7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3E6B-36A4-4167-A8A5-EFE265AD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3C95-728F-4F38-A73A-59D54E99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3F22-F0AB-426B-BAF9-C149D9FC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33F-4F01-47C6-B9F7-62257948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049E-2DC5-4932-B36B-EDF65D5B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CA7B-6528-459C-810B-9EE7AD158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5800" y="1447920"/>
            <a:ext cx="7543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a50021"/>
                </a:solidFill>
                <a:latin typeface="Cooper Black"/>
              </a:rPr>
              <a:t>Name That Phase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a50021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292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on Phase #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09680" y="4267080"/>
            <a:ext cx="13194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dentify the phase of the mo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990720"/>
            <a:ext cx="2590560" cy="27432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182880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1981080"/>
            <a:ext cx="554040" cy="63684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15200" y="2133720"/>
            <a:ext cx="81000" cy="32364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15238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19810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23623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2819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90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00" y="4044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114800"/>
            <a:ext cx="2514600" cy="2514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4724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105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548640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5867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487692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5029200"/>
            <a:ext cx="554040" cy="63648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5181480"/>
            <a:ext cx="81000" cy="32400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ubChord"/>
          <p:cNvSpPr/>
          <p:nvPr/>
        </p:nvSpPr>
        <p:spPr>
          <a:xfrm rot="2853600">
            <a:off x="7975080" y="1931040"/>
            <a:ext cx="625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ubChord"/>
          <p:cNvSpPr/>
          <p:nvPr/>
        </p:nvSpPr>
        <p:spPr>
          <a:xfrm rot="2853600">
            <a:off x="5841360" y="3912120"/>
            <a:ext cx="625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ubChord"/>
          <p:cNvSpPr/>
          <p:nvPr/>
        </p:nvSpPr>
        <p:spPr>
          <a:xfrm rot="13370400">
            <a:off x="8000640" y="1904760"/>
            <a:ext cx="6094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ubChord"/>
          <p:cNvSpPr/>
          <p:nvPr/>
        </p:nvSpPr>
        <p:spPr>
          <a:xfrm rot="13370400">
            <a:off x="5867280" y="3885480"/>
            <a:ext cx="60984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phases are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990720"/>
            <a:ext cx="2590560" cy="27432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182880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1981080"/>
            <a:ext cx="554040" cy="63684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2133720"/>
            <a:ext cx="81000" cy="32364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15238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19810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23623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2819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990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00" y="4044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4114800"/>
            <a:ext cx="2514600" cy="2514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4724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5105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548640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5867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487692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5029200"/>
            <a:ext cx="554040" cy="63648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5181480"/>
            <a:ext cx="81000" cy="32400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20280" y="297180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ll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08400" y="6095880"/>
            <a:ext cx="39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ing Crescent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ubChord"/>
          <p:cNvSpPr/>
          <p:nvPr/>
        </p:nvSpPr>
        <p:spPr>
          <a:xfrm rot="2853600">
            <a:off x="7898040" y="2007360"/>
            <a:ext cx="62568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ubChord"/>
          <p:cNvSpPr/>
          <p:nvPr/>
        </p:nvSpPr>
        <p:spPr>
          <a:xfrm rot="13370400">
            <a:off x="7924320" y="1981080"/>
            <a:ext cx="60984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ubChord"/>
          <p:cNvSpPr/>
          <p:nvPr/>
        </p:nvSpPr>
        <p:spPr>
          <a:xfrm rot="2853600">
            <a:off x="5916960" y="4064760"/>
            <a:ext cx="62568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ubChord"/>
          <p:cNvSpPr/>
          <p:nvPr/>
        </p:nvSpPr>
        <p:spPr>
          <a:xfrm rot="13370400">
            <a:off x="5942880" y="4038120"/>
            <a:ext cx="6094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19T12:21:43Z</dcterms:modified>
  <cp:revision>75</cp:revision>
  <dc:subject/>
  <dc:title>Slide 1</dc:title>
</cp:coreProperties>
</file>