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D69-9694-496A-9D17-2AD3C825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7E3-C0AC-42E1-87F6-35DB7FCF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784-A002-4772-A6B4-76C3552B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B86-AB44-43FE-9B31-78CDA2BB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C02-745F-4284-9B8F-4555FF1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977-A159-4391-AD62-7D0595EE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819-3DF4-44FE-AE9E-41A0795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3EC-7FF8-49B6-9421-03F6C86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8D7-06BA-41D7-8DA8-90DC0C22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049-7C0C-479D-85E7-D540B36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34D-1750-4926-B049-61B645E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C48-C385-4DD4-A105-E0DB765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CD8-5FCC-44DE-9EAB-3DA3ED0E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131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7975080" y="19310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5841360" y="3912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8000640" y="19047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867280" y="3885480"/>
            <a:ext cx="6098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280" y="297180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8400" y="609588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Crescent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7898040" y="2007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924320" y="1981080"/>
            <a:ext cx="6098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2853600">
            <a:off x="5916960" y="40647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942880" y="40381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9T12:21:43Z</dcterms:modified>
  <cp:revision>75</cp:revision>
  <dc:subject/>
  <dc:title>Slide 1</dc:title>
</cp:coreProperties>
</file>