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6C3-20B7-446A-81F9-3CB4875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F57-06E4-455B-BEE7-D01B324D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74A-98C2-42BE-BD02-337C1627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3CF-CE63-48F6-9B05-C447233B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A8C-6714-4537-871E-6D9B6A8F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6C0-4070-4D92-BDB7-A64B7E5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5DE-CD66-462C-AB2C-FC43418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D8B-33E2-43EB-B890-65549EC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DD0-C454-4547-B2B6-0C3309BD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1FA-D6BD-4066-89FF-0748489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F38-ACE5-490B-ACF3-82D29583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220-2792-41F0-8122-1CACEC61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E10-DA27-40DC-83D4-D86D4CDEF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33ccff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33cc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6688440" y="93420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13370400">
            <a:off x="6705360" y="91404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2853600">
            <a:off x="5460480" y="505512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5486040" y="502884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3048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Quarter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20280" y="594360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2853600">
            <a:off x="6688440" y="93420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2853600">
            <a:off x="5384160" y="505512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13370400">
            <a:off x="6705360" y="91404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Chord"/>
          <p:cNvSpPr/>
          <p:nvPr/>
        </p:nvSpPr>
        <p:spPr>
          <a:xfrm rot="13370400">
            <a:off x="5410080" y="5028480"/>
            <a:ext cx="6098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8T12:16:35Z</dcterms:modified>
  <cp:revision>75</cp:revision>
  <dc:subject/>
  <dc:title>Slide 1</dc:title>
</cp:coreProperties>
</file>