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F87-65A0-4611-B193-BFEBCA86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D7C-009C-4334-B2E9-67669B2C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380-2AC4-4BBD-ACB0-28441951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4BE-2FB2-4EB1-9884-8630DB99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DF4-8205-470F-9228-576C18FB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F0B-AEDB-49F3-BABA-10F18675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78B-0617-4514-8286-41524EB6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04E-FA46-4437-BB58-C3BAE0A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0E0-6028-40B0-8280-A08AB0C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F9E-09A3-4D3B-9DCC-B8AD4B7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19B-4826-4C09-AE62-41DEFCF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092-8EDE-4808-8120-89B9EE8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B85A-D54F-4786-9AD1-522F64F93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33ccff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33ccff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bChord"/>
          <p:cNvSpPr/>
          <p:nvPr/>
        </p:nvSpPr>
        <p:spPr>
          <a:xfrm rot="2853600">
            <a:off x="6688440" y="93420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Chord"/>
          <p:cNvSpPr/>
          <p:nvPr/>
        </p:nvSpPr>
        <p:spPr>
          <a:xfrm rot="13370400">
            <a:off x="6705360" y="91404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Chord"/>
          <p:cNvSpPr/>
          <p:nvPr/>
        </p:nvSpPr>
        <p:spPr>
          <a:xfrm rot="2853600">
            <a:off x="5460480" y="505512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13370400">
            <a:off x="5486040" y="502884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hase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30481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Quarter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20280" y="594360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Chord"/>
          <p:cNvSpPr/>
          <p:nvPr/>
        </p:nvSpPr>
        <p:spPr>
          <a:xfrm rot="2853600">
            <a:off x="6688440" y="93420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Chord"/>
          <p:cNvSpPr/>
          <p:nvPr/>
        </p:nvSpPr>
        <p:spPr>
          <a:xfrm rot="2853600">
            <a:off x="5384160" y="505512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Chord"/>
          <p:cNvSpPr/>
          <p:nvPr/>
        </p:nvSpPr>
        <p:spPr>
          <a:xfrm rot="13370400">
            <a:off x="6705360" y="91404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Chord"/>
          <p:cNvSpPr/>
          <p:nvPr/>
        </p:nvSpPr>
        <p:spPr>
          <a:xfrm rot="13370400">
            <a:off x="5410080" y="5028480"/>
            <a:ext cx="6098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8T12:16:35Z</dcterms:modified>
  <cp:revision>75</cp:revision>
  <dc:subject/>
  <dc:title>Slide 1</dc:title>
</cp:coreProperties>
</file>