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21AA-78B1-4B8B-BAF3-204100958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3DF4-D7DD-46FA-9E5C-8693C73B7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83B1-C288-40AB-BD9F-1151E6206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0D57-E369-4AC0-B0C4-E6292D823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D123-E013-427F-8DC8-B9F49346D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469F-55C3-470F-804F-A82F6BEC4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401F-5484-41D0-9B5A-13381633A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5202-5325-4B79-9DA6-69F922353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3160-A1B5-4905-9B5A-C39F10F7C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A242-B731-4590-84C6-5B628BC9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A4FA-CA86-4232-8753-810117B4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8323-0188-4F43-862E-1A307550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E9CD-7164-43CD-898C-436832B4B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attastro.com/gallery/Img_0898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mattastro.com/gallery/Full_18Sep05.jpg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685800" y="1447920"/>
            <a:ext cx="754380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Cooper Black"/>
              </a:rPr>
              <a:t>Name That Phase</a:t>
            </a:r>
            <a:endParaRPr b="0" lang="en-US" sz="1800" spc="1" strike="noStrike">
              <a:ln w="3816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Cooper Black"/>
              <a:ea typeface="Cooper Black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3505320" y="504360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on Phase #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304920" y="6324480"/>
            <a:ext cx="883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R. Bryant 2008 WSMS – Based on “Science Starters” by T. Trimpe at http://sciencespot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cistartlogo2"/>
          <p:cNvPicPr/>
          <p:nvPr/>
        </p:nvPicPr>
        <p:blipFill>
          <a:blip r:embed="rId1"/>
          <a:stretch/>
        </p:blipFill>
        <p:spPr>
          <a:xfrm>
            <a:off x="6095880" y="152280"/>
            <a:ext cx="2686320" cy="505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362320" y="4495680"/>
            <a:ext cx="1785960" cy="14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59"/>
          <p:cNvSpPr/>
          <p:nvPr/>
        </p:nvSpPr>
        <p:spPr>
          <a:xfrm>
            <a:off x="6918480" y="1179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67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dentify the phase of the mo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6 day old mo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81480" y="914400"/>
            <a:ext cx="3200400" cy="2411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Full Moo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2120" y="914400"/>
            <a:ext cx="3276360" cy="2470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9 day old moon"/>
          <p:cNvPicPr/>
          <p:nvPr/>
        </p:nvPicPr>
        <p:blipFill>
          <a:blip r:embed="rId5"/>
          <a:stretch/>
        </p:blipFill>
        <p:spPr>
          <a:xfrm>
            <a:off x="838080" y="3962520"/>
            <a:ext cx="3276720" cy="2514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5257800" y="3733920"/>
            <a:ext cx="3124080" cy="2895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07320" y="6629400"/>
            <a:ext cx="2652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from http://www.mattastro.com/moon.htm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9907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3800" y="9907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0400" y="39625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9400" y="3886200"/>
            <a:ext cx="5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59"/>
          <p:cNvSpPr/>
          <p:nvPr/>
        </p:nvSpPr>
        <p:spPr>
          <a:xfrm>
            <a:off x="6918480" y="1179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67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phases are . .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6 day old moon"/>
          <p:cNvPicPr/>
          <p:nvPr/>
        </p:nvPicPr>
        <p:blipFill>
          <a:blip r:embed="rId1"/>
          <a:stretch/>
        </p:blipFill>
        <p:spPr>
          <a:xfrm>
            <a:off x="5181480" y="685800"/>
            <a:ext cx="3200400" cy="2411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Full Moon"/>
          <p:cNvPicPr/>
          <p:nvPr/>
        </p:nvPicPr>
        <p:blipFill>
          <a:blip r:embed="rId2"/>
          <a:stretch/>
        </p:blipFill>
        <p:spPr>
          <a:xfrm>
            <a:off x="762120" y="685800"/>
            <a:ext cx="3276360" cy="24703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9 day old moon"/>
          <p:cNvPicPr/>
          <p:nvPr/>
        </p:nvPicPr>
        <p:blipFill>
          <a:blip r:embed="rId3"/>
          <a:stretch/>
        </p:blipFill>
        <p:spPr>
          <a:xfrm>
            <a:off x="762120" y="3657600"/>
            <a:ext cx="3276360" cy="2514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5181480" y="3581280"/>
            <a:ext cx="3124440" cy="27432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52280" y="7621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97480" y="7621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0400" y="37339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3080" y="3733920"/>
            <a:ext cx="5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30481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ll M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411880" y="3048120"/>
            <a:ext cx="274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rst Quar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6216480"/>
            <a:ext cx="35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axing Gibb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29200" y="6216480"/>
            <a:ext cx="368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aning Cresc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; Becky Bryant</dc:creator>
  <dc:description/>
  <dc:language>en-US</dc:language>
  <cp:lastModifiedBy>*</cp:lastModifiedBy>
  <dcterms:modified xsi:type="dcterms:W3CDTF">2009-03-17T18:16:20Z</dcterms:modified>
  <cp:revision>70</cp:revision>
  <dc:subject/>
  <dc:title>Slide 1</dc:title>
</cp:coreProperties>
</file>