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B43-BF0C-48EE-BFA7-B83F64DA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62D-E34B-4D9E-84EA-F4CBCD0A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B79-E042-4A35-9671-64378EA8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94A-4F73-4EFB-810E-B9B9E475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238-80AB-438E-A244-D138C21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24F-C6DE-4B21-A875-C087B01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2EF-126C-4568-BA4E-53606672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6EF-F001-4097-A5BA-DD68F905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0AB-A238-4DD3-A71F-42F1DD9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914-866F-4E0B-A268-BE2AD1C1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FDE-2BE9-484C-9F97-6126A08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4D1-4B01-4365-B4A4-A86EC86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0D9-12BB-4EFE-BE3B-7E3E8A135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tastro.com/gallery/Img_0898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mattastro.com/gallery/Full_18Sep05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178596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6 day old m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9144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ull Mo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914400"/>
            <a:ext cx="3276360" cy="247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9 day old moon"/>
          <p:cNvPicPr/>
          <p:nvPr/>
        </p:nvPicPr>
        <p:blipFill>
          <a:blip r:embed="rId5"/>
          <a:stretch/>
        </p:blipFill>
        <p:spPr>
          <a:xfrm>
            <a:off x="838080" y="39625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5257800" y="37339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7320" y="6629400"/>
            <a:ext cx="26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www.mattastro.com/moon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3800" y="990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400" y="39625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9400" y="388620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6 day old moon"/>
          <p:cNvPicPr/>
          <p:nvPr/>
        </p:nvPicPr>
        <p:blipFill>
          <a:blip r:embed="rId1"/>
          <a:stretch/>
        </p:blipFill>
        <p:spPr>
          <a:xfrm>
            <a:off x="5181480" y="685800"/>
            <a:ext cx="3200400" cy="2411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ull Moon"/>
          <p:cNvPicPr/>
          <p:nvPr/>
        </p:nvPicPr>
        <p:blipFill>
          <a:blip r:embed="rId2"/>
          <a:stretch/>
        </p:blipFill>
        <p:spPr>
          <a:xfrm>
            <a:off x="762120" y="685800"/>
            <a:ext cx="3276360" cy="2470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9 day old moon"/>
          <p:cNvPicPr/>
          <p:nvPr/>
        </p:nvPicPr>
        <p:blipFill>
          <a:blip r:embed="rId3"/>
          <a:stretch/>
        </p:blipFill>
        <p:spPr>
          <a:xfrm>
            <a:off x="762120" y="3657600"/>
            <a:ext cx="3276360" cy="2514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181480" y="358128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762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7480" y="762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0400" y="37339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3080" y="3733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048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l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11880" y="30481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621648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xing Gibb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621648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ing Cr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17T18:16:20Z</dcterms:modified>
  <cp:revision>70</cp:revision>
  <dc:subject/>
  <dc:title>Slide 1</dc:title>
</cp:coreProperties>
</file>