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778F-634E-477E-8E25-228DAB07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4C2-1B59-4DD0-B0D3-3141A898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64A-AB8E-4C92-BD3C-2BDF60ED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7F7-8E0A-4DB7-806D-E942D65E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4002-7BF6-46D7-8FE6-F70DA239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AF6-39A7-44FD-9BE1-190234FC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BE1-533A-41ED-8BA4-D7619BC1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13B-C0C7-4370-A27F-0E327B80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3C1-1183-4C70-97BF-D603E931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B30-55ED-496E-AC3A-C94EA2EA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A8B-3E74-478F-A820-D8BF23B1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E53C-EBF0-4DE2-9E28-53DD9253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33A7-CEC2-42C1-8141-6D1825208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d60093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Name That Phase</a:t>
            </a:r>
            <a:endParaRPr b="0" lang="en-US" sz="1800" spc="1" strike="noStrike">
              <a:ln w="38160">
                <a:solidFill>
                  <a:srgbClr val="d60093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on Phas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81080" y="4343400"/>
            <a:ext cx="17542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dentify the phase of the mo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0760" y="6095880"/>
            <a:ext cx="226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kaboodl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9040" y="6095880"/>
            <a:ext cx="391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crazy-space.net/image/Moon%20Phas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828800"/>
            <a:ext cx="685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7080" y="1828800"/>
            <a:ext cx="637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answers ar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0760" y="6095880"/>
            <a:ext cx="226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kaboodl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9040" y="6095880"/>
            <a:ext cx="391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crazy-space.net/image/Moon%20Phas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828800"/>
            <a:ext cx="685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7080" y="1828800"/>
            <a:ext cx="637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2200" y="838080"/>
            <a:ext cx="404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xing Cres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8600" y="838080"/>
            <a:ext cx="39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ning Gibb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18T12:07:53Z</dcterms:modified>
  <cp:revision>68</cp:revision>
  <dc:subject/>
  <dc:title>Slide 1</dc:title>
</cp:coreProperties>
</file>