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B8B-E7EE-4DF1-80D3-3C0F096E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A47-032E-449F-AC16-B5A08147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579-9FC3-4F94-8E47-55CC3FA7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B81-F286-42EA-A6BA-20E408BB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07C-257D-45E8-9246-3D0C79D8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D46-B6D0-481A-8057-9D3300CF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2E2-0ABE-404F-A002-291C06E9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410-C1A2-4124-BE22-4EBBA62A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B5D-283C-4985-8978-308439DF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9C2-AB50-4EE8-B8FD-52AD0370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AA2-8472-465C-A259-A1D1F8C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BE7-3F44-4482-90A2-3CE38926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B3C2-57E0-4CAC-9620-8EFBD54A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d60093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d60093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1754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0760" y="6095880"/>
            <a:ext cx="226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kaboodl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9040" y="6095880"/>
            <a:ext cx="391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crazy-space.net/image/Moon%20Pha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828800"/>
            <a:ext cx="68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7080" y="1828800"/>
            <a:ext cx="63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answer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0760" y="6095880"/>
            <a:ext cx="226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kaboodl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9040" y="6095880"/>
            <a:ext cx="391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crazy-space.net/image/Moon%20Phas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1828800"/>
            <a:ext cx="68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7080" y="1828800"/>
            <a:ext cx="637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200" y="838080"/>
            <a:ext cx="40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xing Cresc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8600" y="838080"/>
            <a:ext cx="39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ning Gibb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8T12:07:53Z</dcterms:modified>
  <cp:revision>68</cp:revision>
  <dc:subject/>
  <dc:title>Slide 1</dc:title>
</cp:coreProperties>
</file>