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629-6E6A-48FD-B8A8-33ADC202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8A7-E2CE-4328-855A-CD83AF46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3FB-880A-4BED-919B-EEA9CDAB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34E5-6EB4-4ABE-BD19-8C1BCF58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1757-5E19-4E02-8BB3-7D2CB920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9E5-90E3-457F-90B2-7FD5F2BE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667-346F-4932-AAF3-2DDE09D4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2C6-22D6-4939-B54B-201B923C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076-ED11-48F7-A792-D3130C59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C326-B361-468A-9CA5-B677FE87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4E0-E3FE-48E9-BE9A-7879F27D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095-7204-49CF-BCB2-E7BABD48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E9B0-7E7E-4EA5-AAF2-0B00D06A8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920" y="838080"/>
            <a:ext cx="85341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66ff"/>
                  </a:solidFill>
                  <a:miter/>
                </a:ln>
                <a:solidFill>
                  <a:srgbClr val="ff0066"/>
                </a:solidFill>
                <a:latin typeface="Cooper Black"/>
              </a:rPr>
              <a:t>Gravitational Pull</a:t>
            </a:r>
            <a:endParaRPr b="0" lang="en-US" sz="1800" spc="1" strike="noStrike">
              <a:ln w="38160">
                <a:solidFill>
                  <a:srgbClr val="0066ff"/>
                </a:solidFill>
                <a:miter/>
              </a:ln>
              <a:solidFill>
                <a:srgbClr val="ff0066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vity and Motion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30477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ich objects have greater gravitational pull? Explai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2438280"/>
            <a:ext cx="1066680" cy="99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4800600"/>
            <a:ext cx="1066680" cy="99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876920"/>
            <a:ext cx="1066680" cy="99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438280"/>
            <a:ext cx="1066680" cy="99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1814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2743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6019920" y="518112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4800600" y="274284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133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080" y="4194000"/>
            <a:ext cx="7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9600" y="259092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0" y="502920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68560" y="495288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bjects in A have more of a gravitational pull, because they are closer to each 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438280"/>
            <a:ext cx="1066680" cy="99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4800600"/>
            <a:ext cx="1066680" cy="99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876920"/>
            <a:ext cx="1066680" cy="99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438280"/>
            <a:ext cx="1066680" cy="99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1814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26668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6019920" y="518112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4800600" y="26668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133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" y="4194000"/>
            <a:ext cx="7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2590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9600" y="259092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200" y="502920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68560" y="502920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04T13:08:00Z</dcterms:modified>
  <cp:revision>41</cp:revision>
  <dc:subject/>
  <dc:title>Slide 1</dc:title>
</cp:coreProperties>
</file>