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D6E-B0AC-4F06-8708-D0B04514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C50-4949-4CA9-8DA0-CF862185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4B2F-B648-4BFD-A2AA-179143B3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AFB-8F19-49D2-A6D0-D9C6A7D8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4B8-4523-4550-9195-3D80897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125-4433-4B27-BD0D-E0915F26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5FB-2D55-4C6A-9BBD-35CAC09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88F-02EE-479D-AA04-7093DCB2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17C-C8A4-4276-9FE1-CB157F50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22B-65EE-4754-975A-8B5D5F43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FB4C-CCCE-457C-984A-6878044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D205-701F-4044-A377-DBA7B45B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2979-C9F7-48F3-AA9E-62A10C25B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8380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66ff"/>
                  </a:solidFill>
                  <a:miter/>
                </a:ln>
                <a:solidFill>
                  <a:srgbClr val="ff0066"/>
                </a:solidFill>
                <a:latin typeface="Cooper Black"/>
              </a:rPr>
              <a:t>Gravitational Pull</a:t>
            </a:r>
            <a:endParaRPr b="0" lang="en-US" sz="1800" spc="1" strike="noStrike">
              <a:ln w="38160">
                <a:solidFill>
                  <a:srgbClr val="0066ff"/>
                </a:solidFill>
                <a:miter/>
              </a:ln>
              <a:solidFill>
                <a:srgbClr val="ff0066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 and Motion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30477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objects have greater gravitational pull? Expla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243828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480060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876920"/>
            <a:ext cx="1066680" cy="99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43828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1814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743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6019920" y="518112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4800600" y="274284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133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080" y="4194000"/>
            <a:ext cx="7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49600" y="25909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0" y="50292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68560" y="495288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2104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bjects in A have more of a gravitational pull, because they are closer to each 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43828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480060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876920"/>
            <a:ext cx="1066680" cy="99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438280"/>
            <a:ext cx="1066680" cy="990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1814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6668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6019920" y="518112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4800600" y="26668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1337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" y="4194000"/>
            <a:ext cx="7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590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9600" y="259092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0" y="50292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68560" y="50292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04T13:08:00Z</dcterms:modified>
  <cp:revision>41</cp:revision>
  <dc:subject/>
  <dc:title>Slide 1</dc:title>
</cp:coreProperties>
</file>