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BD0-9211-4E98-ABC9-F2C3C1EC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535-D0F2-438E-8F98-7D121E6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89E-DAA4-48B8-A166-FF386A23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6F5-0309-47A4-ADCC-FAF04672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6EB-3EB0-4C77-A93A-55FBC626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43D-1B68-4CF5-AE3A-E44B0EE8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3DE-8DEE-496E-A861-792B8165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72D-F749-49E8-ADD5-5E56EE09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7B0-33BD-409C-9DAC-6FA3B710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CE2-3772-46D5-AFCC-5CA279B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9F5-8901-4B22-99C5-8FB0DC8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9C5-79BA-4726-8ECC-1E1DB7B3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8806-88C0-4CFC-BA1F-443F5561D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91440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cc99"/>
                </a:solidFill>
                <a:latin typeface="Cooper Black"/>
              </a:rPr>
              <a:t>Mass vs. Weight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cc99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 and Mo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23619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e the following term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1828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30481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2670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8018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definition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9907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a force that attracts all objects to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6668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the amount of matter in an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3434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eigh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the force of gravity on an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03T13:15:15Z</dcterms:modified>
  <cp:revision>38</cp:revision>
  <dc:subject/>
  <dc:title>Slide 1</dc:title>
</cp:coreProperties>
</file>