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2C1-DF84-4D11-B638-69660BA6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BD2-56F5-4E91-8B78-936EDF3F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001-71C9-4A3B-AF7C-9921C425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500-9937-42F1-84F5-D4B1FA6B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1B5-4F36-4E2E-B035-F192219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76D-68CD-420D-8D6E-B8309B32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720-88F4-4A57-9509-83A5CE98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7FB-018A-4B00-A91E-BD741297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0FD-29A0-477D-8659-08BE4133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267-EE60-4B57-9C4E-D23E306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9DC-2B65-4D9D-A8BC-2E38FD2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3C8-D236-4CA9-9BB6-8C2EE2C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8CCD-99E5-4432-880D-EEE4537A7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cc99"/>
                </a:solidFill>
                <a:latin typeface="Cooper Black"/>
              </a:rPr>
              <a:t>Mass vs. Weight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cc99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23619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e the following term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18288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2670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8018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definition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9907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a force that attracts all objects to each 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666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the amount of matter in an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3434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eigh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the force of gravity on an ob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03T13:15:15Z</dcterms:modified>
  <cp:revision>38</cp:revision>
  <dc:subject/>
  <dc:title>Slide 1</dc:title>
</cp:coreProperties>
</file>