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AEA-E144-4EB0-B64C-C46B41F2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66D-08DB-4CAB-85E4-9B2E265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23-A429-4A9E-AAA7-EB85AED1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A27-A28B-4266-A200-B165A1CD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8BE-AD24-41F3-910E-3C768B5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2B4-CAB6-4A60-B5D0-38A751D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165-B06E-408D-A14C-3DEEB7CD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145-113F-4134-945D-F41EB59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074-E329-4971-B4F6-57AFD23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930-1721-4FE1-BDF2-306AACA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015-EE28-444A-949C-9F19883A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95F-A7E3-429A-8F54-B8210AA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177E-9795-4644-8E9F-93A53961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ewton's Law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12765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335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Discuss Newton’s First Law of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648320" cy="369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6400800"/>
            <a:ext cx="50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omparestoreprices.co.uk/images/to/toyday-newtons-crad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-30600"/>
            <a:ext cx="9144000" cy="642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 law states that . . 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37160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bject at rest will stay at rest and an object in motion will stay in motion with a constant speed and direction unless acted on by a fo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38948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440" y="6095880"/>
            <a:ext cx="52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http://www.cartoonstock.com/newscartoons/cartoonists/cga/lowres/cgan626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2-26T13:20:27Z</dcterms:modified>
  <cp:revision>35</cp:revision>
  <dc:subject/>
  <dc:title>Slide 1</dc:title>
</cp:coreProperties>
</file>