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F772-06F7-4DB3-B5CC-39EAA8006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88B4-53A1-4074-A1DA-37DDE2522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DE05-749F-4821-9026-877E5FC0F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65F0-D6BF-4A30-82F3-76E4330EB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BBDF-D0A3-4D18-A01D-AFDA7416C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B804-58E4-43A1-834F-28EFB786E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82E9-B571-40AB-9B4D-D87A2FA22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D754-C869-4FBB-9677-DF94CF0C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C7BD-E6A3-44F7-B569-4C8354DA9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6A05-4042-4DA6-91ED-8FE04B54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E99E-34FA-448C-A156-545A85AD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83C7-70B1-49A8-A82D-7FC6039B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6DACD-0898-4FC4-9BDE-53EDA39D9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457200" y="914400"/>
            <a:ext cx="853452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333399"/>
                  </a:solidFill>
                  <a:miter/>
                </a:ln>
                <a:solidFill>
                  <a:srgbClr val="0066ff"/>
                </a:solidFill>
                <a:latin typeface="Cooper Black"/>
              </a:rPr>
              <a:t>Newton's Law</a:t>
            </a:r>
            <a:endParaRPr b="0" lang="en-US" sz="1800" spc="1" strike="noStrike">
              <a:ln w="38160">
                <a:solidFill>
                  <a:srgbClr val="333399"/>
                </a:solidFill>
                <a:miter/>
              </a:ln>
              <a:solidFill>
                <a:srgbClr val="0066ff"/>
              </a:solidFill>
              <a:latin typeface="Cooper Black"/>
              <a:ea typeface="Cooper Black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3505320" y="504360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avity and Motion #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304920" y="6324480"/>
            <a:ext cx="883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R. Bryant 2008 WSMS – Based on “Science Starters” by T. Trimpe at http://sciencespot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cistartlogo2"/>
          <p:cNvPicPr/>
          <p:nvPr/>
        </p:nvPicPr>
        <p:blipFill>
          <a:blip r:embed="rId1"/>
          <a:stretch/>
        </p:blipFill>
        <p:spPr>
          <a:xfrm>
            <a:off x="6095880" y="152280"/>
            <a:ext cx="2686320" cy="505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981080" y="4648320"/>
            <a:ext cx="1276560" cy="119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59"/>
          <p:cNvSpPr/>
          <p:nvPr/>
        </p:nvSpPr>
        <p:spPr>
          <a:xfrm>
            <a:off x="6918480" y="1179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19320" y="53352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Arial"/>
              </a:rPr>
              <a:t>Discuss Newton’s First Law of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0" y="2438280"/>
            <a:ext cx="4648320" cy="3692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57400" y="6400800"/>
            <a:ext cx="5024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www.comparestoreprices.co.uk/images/to/toyday-newtons-cradle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-30600"/>
            <a:ext cx="9144000" cy="6426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is law states that . . 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24280" y="1371600"/>
            <a:ext cx="4419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 object at rest will stay at rest and an object in motion will stay in motion with a constant speed and direction unless acted on by a for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4389480" cy="4876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-1440" y="6095880"/>
            <a:ext cx="529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http://www.cartoonstock.com/newscartoons/cartoonists/cga/lowres/cgan626l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; Becky Bryant</dc:creator>
  <dc:description/>
  <dc:language>en-US</dc:language>
  <cp:lastModifiedBy>*</cp:lastModifiedBy>
  <dcterms:modified xsi:type="dcterms:W3CDTF">2009-02-26T13:20:27Z</dcterms:modified>
  <cp:revision>35</cp:revision>
  <dc:subject/>
  <dc:title>Slide 1</dc:title>
</cp:coreProperties>
</file>