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F80-F4CA-49A7-BCF1-6E63DFB0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2C8-ED53-4AF1-8735-A3C090E0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4AF-11AF-440F-8872-652BC8AB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6223-B70A-4463-AC0F-57551635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AF8A-70DC-4B27-9CEE-C5095DE2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878-7CD0-45EA-9117-28486038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CC6-2A2B-4826-88F2-19D52A7D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285-A275-4C9C-AAA0-8966C777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B5C-49EC-4CC9-A3A5-0515A652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B6A-464F-4850-BD4B-51D75D3A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D35-C9F6-461A-A40B-2A9F8F9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CE1-ACAD-43E3-B79E-A8AD911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D537-69A4-48C4-9473-127BBA70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91440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What Goes Up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Must Come Dow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419720"/>
            <a:ext cx="13874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83808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two factors that combine to keep the moon and Earth in orb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3578400"/>
            <a:ext cx="29718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8288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49568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ert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3333600" cy="264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267080" y="6477120"/>
            <a:ext cx="409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from http://www.comparestoreprices.co.uk/images/to/toyday-newtons-cradle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2-25T13:22:20Z</dcterms:modified>
  <cp:revision>34</cp:revision>
  <dc:subject/>
  <dc:title>Slide 1</dc:title>
</cp:coreProperties>
</file>