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630-F3E7-4C4C-8B18-8264324A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F0C-188E-41A2-B0E1-CA64B965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AEE-3C8C-484C-9008-D2EFAAD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720-A4BE-4A7F-A56F-863A6DE3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CEA-F9C3-4AAB-95E7-04900A6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B39-81D4-4325-B581-2F1AD387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AAD-9DBB-407B-A5B9-916E4555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705-8FE2-4AE8-AEB9-6CC2078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FBA-882D-4627-9793-DF999F72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667-F1C7-4571-BF61-08FF713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9CD-8DB1-4033-BA03-80407B6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06F-D79A-41D2-AFAF-6836751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CBC3-2008-49F2-B90A-127852DA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What Goes Up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Must Come Dow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13874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83808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two factors that combine to keep the moon and Earth in orb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3578400"/>
            <a:ext cx="29718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49568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3333600" cy="264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67080" y="6477120"/>
            <a:ext cx="409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from http://www.comparestoreprices.co.uk/images/to/toyday-newtons-crad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2-25T13:22:20Z</dcterms:modified>
  <cp:revision>34</cp:revision>
  <dc:subject/>
  <dc:title>Slide 1</dc:title>
</cp:coreProperties>
</file>