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9E5-53EB-4F9E-9B17-BDECC93F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746-BACB-4CC4-970F-153E549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243-26FF-4C0A-B4A3-29CD3B35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2F4-4FE9-47DD-A100-75B8F893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341-C716-4594-8A7A-A9AE27A0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A19-C900-4CC6-8C6B-8387DB72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EB3-3715-4D5B-8EA4-ECF6B56E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C3F-97CC-421A-A501-E1CD0B2E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E0B-82EA-4A69-835B-FBEF56C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F0D-11E1-4998-88F9-F12D337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441-AFC8-4387-839B-8691D7B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FAA5-6929-474A-B6DD-3D086313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C44-F992-483B-999F-DA5FFEB1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6483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cretory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62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– Based on “Science Starters” by T. Trimpe at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7c80"/>
                  </a:solidFill>
                  <a:miter/>
                </a:ln>
                <a:solidFill>
                  <a:srgbClr val="ffcc99"/>
                </a:solidFill>
                <a:latin typeface="Cooper Black"/>
              </a:rPr>
              <a:t>Name That Organ</a:t>
            </a:r>
            <a:endParaRPr b="0" lang="en-US" sz="1800" spc="1" strike="noStrike">
              <a:ln w="38160">
                <a:solidFill>
                  <a:srgbClr val="ff7c80"/>
                </a:solidFill>
                <a:miter/>
              </a:ln>
              <a:solidFill>
                <a:srgbClr val="ffcc99"/>
              </a:solidFill>
              <a:latin typeface="Cooper Black"/>
              <a:ea typeface="Cooper Black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248520" y="152280"/>
            <a:ext cx="268596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28800" y="4038480"/>
            <a:ext cx="17114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0"/>
            <a:ext cx="84582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Identify the organs of the urinary sy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400800" cy="546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95280"/>
            <a:ext cx="54864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297180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373392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819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45720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601992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360" y="6477120"/>
            <a:ext cx="532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from http://upload.wikimedia.org/wikipedia/commons/1/18/Illu_urinary_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3124080"/>
            <a:ext cx="1523880" cy="255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4495680"/>
            <a:ext cx="1828800" cy="15264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The organs of urinary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996633"/>
                </a:solidFill>
                <a:latin typeface="Arial"/>
              </a:rPr>
              <a:t>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400800" cy="546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1219320"/>
            <a:ext cx="495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2819520"/>
            <a:ext cx="106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895480"/>
            <a:ext cx="76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495680"/>
            <a:ext cx="990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601992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360" y="6477120"/>
            <a:ext cx="532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from http://upload.wikimedia.org/wikipedia/commons/1/18/Illu_urinary_syste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267080"/>
            <a:ext cx="68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200400"/>
            <a:ext cx="1219320" cy="17928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572000"/>
            <a:ext cx="1600200" cy="7632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895480"/>
            <a:ext cx="99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560" y="4343400"/>
            <a:ext cx="1092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3:53:35Z</dcterms:modified>
  <cp:revision>82</cp:revision>
  <dc:subject/>
  <dc:title>Slide 1</dc:title>
</cp:coreProperties>
</file>