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F636-8967-47E3-A747-FB8E8F17F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5DF9-5971-4183-8C53-FB4C30E8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1F0A-8795-4B5D-8165-6279DD850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554B-CCB7-4DAC-8CF5-D3E990472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6A71-FD0F-43E6-9BCB-7778AF51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A4F8-AB2E-4259-88DE-39130A02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E64A-DD68-4EF9-86A0-87BEE643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AEED-80BA-44B5-8579-8910BA20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A27E-8393-400F-B2D9-A713478D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B491-B82A-4D90-B48B-103FF542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A3FD-E29E-47A9-92BB-791884E9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CA0C-E310-47F0-8F28-FBC97424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8E23-CCE8-433B-8F05-ECCB74BEF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464832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cretory System #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629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. Bryant WSMS 2008– Based on “Science Starters” by T. Trimpe at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2280" y="685800"/>
            <a:ext cx="876312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7c80"/>
                  </a:solidFill>
                  <a:miter/>
                </a:ln>
                <a:solidFill>
                  <a:srgbClr val="ffcc99"/>
                </a:solidFill>
                <a:latin typeface="Cooper Black"/>
              </a:rPr>
              <a:t>Name That Organ</a:t>
            </a:r>
            <a:endParaRPr b="0" lang="en-US" sz="1800" spc="1" strike="noStrike">
              <a:ln w="38160">
                <a:solidFill>
                  <a:srgbClr val="ff7c80"/>
                </a:solidFill>
                <a:miter/>
              </a:ln>
              <a:solidFill>
                <a:srgbClr val="ffcc99"/>
              </a:solidFill>
              <a:latin typeface="Cooper Black"/>
              <a:ea typeface="Cooper Black"/>
            </a:endParaRPr>
          </a:p>
        </p:txBody>
      </p:sp>
      <p:pic>
        <p:nvPicPr>
          <p:cNvPr id="44" name="Picture 9" descr="scistartlogo2"/>
          <p:cNvPicPr/>
          <p:nvPr/>
        </p:nvPicPr>
        <p:blipFill>
          <a:blip r:embed="rId1"/>
          <a:stretch/>
        </p:blipFill>
        <p:spPr>
          <a:xfrm>
            <a:off x="6248520" y="152280"/>
            <a:ext cx="2685960" cy="5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828800" y="4038480"/>
            <a:ext cx="17114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1240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6216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0"/>
            <a:ext cx="845820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Identify the organs of the urinary syste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6400800" cy="5465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81080" y="1295280"/>
            <a:ext cx="5486400" cy="3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2971800"/>
            <a:ext cx="1066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3733920"/>
            <a:ext cx="1143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28195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4191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24480" y="4572000"/>
            <a:ext cx="99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6019920"/>
            <a:ext cx="1600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4360" y="6477120"/>
            <a:ext cx="532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lustration from http://upload.wikimedia.org/wikipedia/commons/1/18/Illu_urinary_system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33720" y="3124080"/>
            <a:ext cx="1523880" cy="2556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4495680"/>
            <a:ext cx="1828800" cy="15264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6216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The organs of urinary syst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are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6400800" cy="5465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05120" y="1219320"/>
            <a:ext cx="4952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2819520"/>
            <a:ext cx="1066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72200" y="3657600"/>
            <a:ext cx="1143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5120" y="2895480"/>
            <a:ext cx="761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48520" y="4495680"/>
            <a:ext cx="990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3600" y="6019920"/>
            <a:ext cx="1600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360" y="6477120"/>
            <a:ext cx="532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lustration from http://upload.wikimedia.org/wikipedia/commons/1/18/Illu_urinary_system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05120" y="4267080"/>
            <a:ext cx="685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3200400"/>
            <a:ext cx="1219320" cy="17928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4572000"/>
            <a:ext cx="1600200" cy="7632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895480"/>
            <a:ext cx="990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06560" y="4343400"/>
            <a:ext cx="1092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becky</cp:lastModifiedBy>
  <dcterms:modified xsi:type="dcterms:W3CDTF">2009-02-22T23:53:35Z</dcterms:modified>
  <cp:revision>82</cp:revision>
  <dc:subject/>
  <dc:title>Slide 1</dc:title>
</cp:coreProperties>
</file>