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CE4-8B5E-4987-807E-1442964C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2CA-4DCA-4470-B3AA-0A5ACF98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170-3D0B-4B60-9E80-C410931A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64A-B14D-4A4B-B0C0-7F6492C8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C45-E5C0-4E15-BF2E-852711D7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FE4-9A96-459B-B069-790721D7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4B4-4092-44AA-8091-E296816D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3EB-C91F-4D29-8C58-D16D38B1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F92-21D9-4B7F-8E24-B276C305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878-2440-435B-A293-2917B0BD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614-7060-469B-81F4-9C068A81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AF7-6800-44F8-9991-80D4DE6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E864-70A0-426C-89AE-98B5D4ED3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6483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cretory System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40080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WSMS 2008– Based on “Science Starters” by T. Trimpe at http://sciencespot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68580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996633"/>
                </a:solidFill>
                <a:latin typeface="Cooper Black"/>
              </a:rPr>
              <a:t>Organs of Excretion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996633"/>
              </a:solidFill>
              <a:latin typeface="Cooper Black"/>
              <a:ea typeface="Cooper Black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248520" y="152280"/>
            <a:ext cx="268596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62320" y="4495680"/>
            <a:ext cx="1244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845820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Identify the organs of excretion and their fun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1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8600"/>
            <a:ext cx="9144000" cy="65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The organs of excretion are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1.  kidneys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  filter bl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2.  skin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sweat (salt &amp; H</a:t>
            </a:r>
            <a:r>
              <a:rPr b="0" lang="en-US" sz="4800" spc="-1" strike="noStrike" baseline="-25000">
                <a:solidFill>
                  <a:srgbClr val="996633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O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3.  lungs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exhale CO</a:t>
            </a:r>
            <a:r>
              <a:rPr b="0" lang="en-US" sz="4800" spc="-1" strike="noStrike" baseline="-25000">
                <a:solidFill>
                  <a:srgbClr val="996633"/>
                </a:solidFill>
                <a:latin typeface="Arial"/>
              </a:rPr>
              <a:t>2 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&amp; H</a:t>
            </a:r>
            <a:r>
              <a:rPr b="0" lang="en-US" sz="4800" spc="-1" strike="noStrike" baseline="-25000">
                <a:solidFill>
                  <a:srgbClr val="996633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4.  liver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 recycle RBC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933480" cy="125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1171440" cy="1374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438280" y="2819520"/>
            <a:ext cx="905040" cy="90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438280" y="5648400"/>
            <a:ext cx="129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2T23:19:46Z</dcterms:modified>
  <cp:revision>78</cp:revision>
  <dc:subject/>
  <dc:title>Slide 1</dc:title>
</cp:coreProperties>
</file>