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8F5-AD69-4358-A46F-B0213C98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864-C8A1-4C0F-BB10-80D0CD32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29D-A3EE-4252-A7E1-CB3D38DC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E75-5A3E-4BA1-ABAD-40495621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9AF-066A-46B8-8DE1-240553B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365-2197-4CCC-8A75-989FEE3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466-F52F-478F-B8BB-8B5FDE0E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4D2-096E-4D3E-880C-76DFBDD6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060-8541-4527-88E0-29781AD0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17A-FD5D-4F3E-A9EF-AD191AA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121-EB27-4D6C-8B14-A66D99E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6F6-FDE2-4A08-B398-0961384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7334-3511-4A83-96EE-40D9987ED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40080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996633"/>
                </a:solidFill>
                <a:latin typeface="Cooper Black"/>
              </a:rPr>
              <a:t>Organs of Excretion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996633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362320" y="4495680"/>
            <a:ext cx="1244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45820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Identify the organs of excretion and their fun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1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8600"/>
            <a:ext cx="9144000" cy="65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The organs of excretion are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1.  kidneys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  filter bl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2.  skin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sweat (salt &amp; H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O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3.  lungs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exhale CO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&amp; H</a:t>
            </a:r>
            <a:r>
              <a:rPr b="0" lang="en-US" sz="4800" spc="-1" strike="noStrike" baseline="-25000">
                <a:solidFill>
                  <a:srgbClr val="996633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4.  liver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 recycle RBC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933480" cy="125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1171440" cy="1374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38280" y="2819520"/>
            <a:ext cx="905040" cy="90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438280" y="5648400"/>
            <a:ext cx="129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19:46Z</dcterms:modified>
  <cp:revision>78</cp:revision>
  <dc:subject/>
  <dc:title>Slide 1</dc:title>
</cp:coreProperties>
</file>