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A1D-FA8E-4C49-A968-E90DD4B0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0B4B-FC7F-4063-B1AE-611E072A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744-7742-4F8F-AC41-E0E77598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361-FE85-4C83-AB9E-39114AAD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CD5-E0ED-4779-BF4D-E8B4B21A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F1FB-24AA-42C9-96D0-BC7C33FF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BBF-11AE-4ED6-A379-9ED13EC6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2B6-0F42-4F3C-AB13-9433DA8A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05F-31F0-4B05-8989-87FAEBAF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60EB-2965-4FF2-8938-EB9BFDCC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1FD-B6CF-4B0B-9D81-1B09308F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3D4-9D94-406C-A64E-49E112E5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A90E-4AB8-4B51-91C3-893882577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6483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cretory System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400800"/>
            <a:ext cx="853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. Bryant WSMS 2008– Based on “Science Starters” by T. Trimpe at http://sciencespot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685800"/>
            <a:ext cx="87631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Excretion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248520" y="152280"/>
            <a:ext cx="268596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28800" y="4572000"/>
            <a:ext cx="17272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80880"/>
            <a:ext cx="8915400" cy="56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Identify three ways tha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he body eliminates liqui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was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1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18954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304920"/>
            <a:ext cx="8458200" cy="56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he body eliminates liqui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waste by .  .  .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1. swe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2. urin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3. exha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1611360" cy="165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952880" y="3505320"/>
            <a:ext cx="1101960" cy="1792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00600" y="5334120"/>
            <a:ext cx="12985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2T23:17:50Z</dcterms:modified>
  <cp:revision>76</cp:revision>
  <dc:subject/>
  <dc:title>Slide 1</dc:title>
</cp:coreProperties>
</file>