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0FB-CCF9-4BA4-8A10-4FE53A79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BC9-6C68-4BC6-B689-4260AB1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8BB-7B9C-4153-BF8A-3C69B944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5FB-B6C6-4E2E-9E63-C75B0F3E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543-0C81-474B-80D6-995A6FD8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603-9CAF-4019-89C0-B8B4BE2D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A60-2063-44CD-A6BF-D5A7325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A6F-4B30-485D-9F22-AE99FEC5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67E-5590-4B18-BCD9-3CE9922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AE8-F17B-4F3A-9706-5B59390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68A-71CC-434F-9047-F2122AA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A1A-C7D0-43F8-B063-A86FB013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0820-C89B-4CEC-A4F9-60C5B9C1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648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retory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400800"/>
            <a:ext cx="853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WSMS 2008– Based on “Science Starters” by T. Trimpe at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xcretion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1727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880"/>
            <a:ext cx="891540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dentify three ways th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body eliminates liqui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as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1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1895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04920"/>
            <a:ext cx="845820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body eliminates liqui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aste by .  .  .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1. swe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2. urin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. exh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161136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1101960" cy="179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5334120"/>
            <a:ext cx="1298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3:17:50Z</dcterms:modified>
  <cp:revision>76</cp:revision>
  <dc:subject/>
  <dc:title>Slide 1</dc:title>
</cp:coreProperties>
</file>