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8EE-8BF6-42F6-9DD7-2F71A4D2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526-262C-4708-98F1-9C55F804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2FE-0142-46A5-B681-832DF80E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21A-9532-43BA-A37F-B27DA5E6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706-FF75-471A-8D5F-6E69C484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4AB-C024-4B0E-8D92-59607626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205-D6DC-4F36-8D6E-751B5A84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602-15E1-4F9E-8905-54244C2E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712-3C7C-445F-9F30-7F7665C9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0FD-1A4D-4483-AE18-8E691519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751-1E4D-4B22-9367-63C5282A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0E2-858E-4969-A3D4-87D0997A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0BB9-C4BB-47CF-9C57-B427310E6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cc00"/>
                  </a:solidFill>
                  <a:miter/>
                </a:ln>
                <a:solidFill>
                  <a:srgbClr val="808080"/>
                </a:solidFill>
                <a:latin typeface="Cooper Black"/>
              </a:rPr>
              <a:t>Where's the Moon?</a:t>
            </a:r>
            <a:endParaRPr b="0" lang="en-US" sz="1800" spc="1" strike="noStrike">
              <a:ln w="38160">
                <a:solidFill>
                  <a:srgbClr val="ffcc00"/>
                </a:solidFill>
                <a:miter/>
              </a:ln>
              <a:solidFill>
                <a:srgbClr val="80808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114800" y="5105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lips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362320" y="4267080"/>
            <a:ext cx="17287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6200000">
            <a:off x="5657760" y="2495160"/>
            <a:ext cx="1066680" cy="262872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3200400"/>
            <a:ext cx="1219320" cy="1219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1515240"/>
          </a:xfrm>
          <a:prstGeom prst="rect">
            <a:avLst/>
          </a:prstGeom>
          <a:solidFill>
            <a:srgbClr val="cf8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type of ecli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 shadows labeled A and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362320"/>
            <a:ext cx="2971800" cy="2819160"/>
          </a:xfrm>
          <a:prstGeom prst="sun">
            <a:avLst>
              <a:gd name="adj" fmla="val 25000"/>
            </a:avLst>
          </a:prstGeom>
          <a:solidFill>
            <a:srgbClr val="e8f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3429000"/>
            <a:ext cx="863640" cy="844560"/>
          </a:xfrm>
          <a:custGeom>
            <a:avLst/>
            <a:gdLst/>
            <a:ahLst/>
            <a:rect l="l" t="t" r="r" b="b"/>
            <a:pathLst>
              <a:path w="544" h="532">
                <a:moveTo>
                  <a:pt x="59" y="0"/>
                </a:moveTo>
                <a:cubicBezTo>
                  <a:pt x="82" y="70"/>
                  <a:pt x="199" y="55"/>
                  <a:pt x="248" y="58"/>
                </a:cubicBezTo>
                <a:cubicBezTo>
                  <a:pt x="340" y="56"/>
                  <a:pt x="433" y="46"/>
                  <a:pt x="525" y="51"/>
                </a:cubicBezTo>
                <a:cubicBezTo>
                  <a:pt x="535" y="51"/>
                  <a:pt x="544" y="103"/>
                  <a:pt x="503" y="116"/>
                </a:cubicBezTo>
                <a:cubicBezTo>
                  <a:pt x="479" y="133"/>
                  <a:pt x="462" y="150"/>
                  <a:pt x="445" y="174"/>
                </a:cubicBezTo>
                <a:cubicBezTo>
                  <a:pt x="437" y="209"/>
                  <a:pt x="431" y="221"/>
                  <a:pt x="401" y="240"/>
                </a:cubicBezTo>
                <a:cubicBezTo>
                  <a:pt x="390" y="273"/>
                  <a:pt x="379" y="342"/>
                  <a:pt x="379" y="342"/>
                </a:cubicBezTo>
                <a:cubicBezTo>
                  <a:pt x="375" y="324"/>
                  <a:pt x="373" y="304"/>
                  <a:pt x="358" y="291"/>
                </a:cubicBezTo>
                <a:cubicBezTo>
                  <a:pt x="345" y="279"/>
                  <a:pt x="314" y="262"/>
                  <a:pt x="314" y="262"/>
                </a:cubicBezTo>
                <a:cubicBezTo>
                  <a:pt x="278" y="298"/>
                  <a:pt x="284" y="323"/>
                  <a:pt x="299" y="371"/>
                </a:cubicBezTo>
                <a:cubicBezTo>
                  <a:pt x="306" y="429"/>
                  <a:pt x="328" y="467"/>
                  <a:pt x="285" y="510"/>
                </a:cubicBezTo>
                <a:cubicBezTo>
                  <a:pt x="282" y="517"/>
                  <a:pt x="285" y="532"/>
                  <a:pt x="277" y="532"/>
                </a:cubicBezTo>
                <a:cubicBezTo>
                  <a:pt x="268" y="532"/>
                  <a:pt x="268" y="517"/>
                  <a:pt x="263" y="510"/>
                </a:cubicBezTo>
                <a:cubicBezTo>
                  <a:pt x="243" y="481"/>
                  <a:pt x="230" y="469"/>
                  <a:pt x="197" y="459"/>
                </a:cubicBezTo>
                <a:cubicBezTo>
                  <a:pt x="187" y="428"/>
                  <a:pt x="169" y="425"/>
                  <a:pt x="139" y="415"/>
                </a:cubicBezTo>
                <a:cubicBezTo>
                  <a:pt x="99" y="384"/>
                  <a:pt x="54" y="389"/>
                  <a:pt x="8" y="371"/>
                </a:cubicBezTo>
                <a:cubicBezTo>
                  <a:pt x="19" y="315"/>
                  <a:pt x="6" y="344"/>
                  <a:pt x="59" y="291"/>
                </a:cubicBezTo>
                <a:cubicBezTo>
                  <a:pt x="71" y="279"/>
                  <a:pt x="88" y="247"/>
                  <a:pt x="88" y="247"/>
                </a:cubicBezTo>
                <a:cubicBezTo>
                  <a:pt x="121" y="149"/>
                  <a:pt x="69" y="124"/>
                  <a:pt x="0" y="102"/>
                </a:cubicBezTo>
                <a:cubicBezTo>
                  <a:pt x="12" y="70"/>
                  <a:pt x="25" y="39"/>
                  <a:pt x="37" y="7"/>
                </a:cubicBezTo>
                <a:cubicBezTo>
                  <a:pt x="66" y="36"/>
                  <a:pt x="59" y="39"/>
                  <a:pt x="59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3657600"/>
            <a:ext cx="16200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77" y="0"/>
                </a:moveTo>
                <a:cubicBezTo>
                  <a:pt x="68" y="37"/>
                  <a:pt x="43" y="67"/>
                  <a:pt x="11" y="87"/>
                </a:cubicBezTo>
                <a:cubicBezTo>
                  <a:pt x="0" y="123"/>
                  <a:pt x="13" y="151"/>
                  <a:pt x="33" y="182"/>
                </a:cubicBezTo>
                <a:cubicBezTo>
                  <a:pt x="27" y="215"/>
                  <a:pt x="14" y="231"/>
                  <a:pt x="4" y="262"/>
                </a:cubicBezTo>
                <a:cubicBezTo>
                  <a:pt x="16" y="312"/>
                  <a:pt x="19" y="293"/>
                  <a:pt x="55" y="270"/>
                </a:cubicBezTo>
                <a:cubicBezTo>
                  <a:pt x="66" y="166"/>
                  <a:pt x="102" y="109"/>
                  <a:pt x="77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ubChord"/>
          <p:cNvSpPr/>
          <p:nvPr/>
        </p:nvSpPr>
        <p:spPr>
          <a:xfrm rot="2853600">
            <a:off x="6984360" y="353124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ubChord"/>
          <p:cNvSpPr/>
          <p:nvPr/>
        </p:nvSpPr>
        <p:spPr>
          <a:xfrm rot="13844400">
            <a:off x="6984000" y="353088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3200400"/>
            <a:ext cx="2361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029200" y="41144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36576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8241800">
            <a:off x="5208120" y="4240440"/>
            <a:ext cx="973080" cy="263520"/>
          </a:xfrm>
          <a:prstGeom prst="rightArrow">
            <a:avLst>
              <a:gd name="adj1" fmla="val 50000"/>
              <a:gd name="adj2" fmla="val 92316"/>
            </a:avLst>
          </a:prstGeom>
          <a:solidFill>
            <a:srgbClr val="cf86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724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2480" y="190512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3408000">
            <a:off x="5741280" y="2869200"/>
            <a:ext cx="1277640" cy="263520"/>
          </a:xfrm>
          <a:prstGeom prst="rightArrow">
            <a:avLst>
              <a:gd name="adj1" fmla="val 50000"/>
              <a:gd name="adj2" fmla="val 121209"/>
            </a:avLst>
          </a:prstGeom>
          <a:solidFill>
            <a:srgbClr val="cf86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16200000">
            <a:off x="5657760" y="2495160"/>
            <a:ext cx="1066680" cy="262872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3200400"/>
            <a:ext cx="1219320" cy="1219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cf8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answers are . .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362320"/>
            <a:ext cx="2971800" cy="2819160"/>
          </a:xfrm>
          <a:prstGeom prst="sun">
            <a:avLst>
              <a:gd name="adj" fmla="val 25000"/>
            </a:avLst>
          </a:prstGeom>
          <a:solidFill>
            <a:srgbClr val="e8fd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3429000"/>
            <a:ext cx="863640" cy="844560"/>
          </a:xfrm>
          <a:custGeom>
            <a:avLst/>
            <a:gdLst/>
            <a:ahLst/>
            <a:rect l="l" t="t" r="r" b="b"/>
            <a:pathLst>
              <a:path w="544" h="532">
                <a:moveTo>
                  <a:pt x="59" y="0"/>
                </a:moveTo>
                <a:cubicBezTo>
                  <a:pt x="82" y="70"/>
                  <a:pt x="199" y="55"/>
                  <a:pt x="248" y="58"/>
                </a:cubicBezTo>
                <a:cubicBezTo>
                  <a:pt x="340" y="56"/>
                  <a:pt x="433" y="46"/>
                  <a:pt x="525" y="51"/>
                </a:cubicBezTo>
                <a:cubicBezTo>
                  <a:pt x="535" y="51"/>
                  <a:pt x="544" y="103"/>
                  <a:pt x="503" y="116"/>
                </a:cubicBezTo>
                <a:cubicBezTo>
                  <a:pt x="479" y="133"/>
                  <a:pt x="462" y="150"/>
                  <a:pt x="445" y="174"/>
                </a:cubicBezTo>
                <a:cubicBezTo>
                  <a:pt x="437" y="209"/>
                  <a:pt x="431" y="221"/>
                  <a:pt x="401" y="240"/>
                </a:cubicBezTo>
                <a:cubicBezTo>
                  <a:pt x="390" y="273"/>
                  <a:pt x="379" y="342"/>
                  <a:pt x="379" y="342"/>
                </a:cubicBezTo>
                <a:cubicBezTo>
                  <a:pt x="375" y="324"/>
                  <a:pt x="373" y="304"/>
                  <a:pt x="358" y="291"/>
                </a:cubicBezTo>
                <a:cubicBezTo>
                  <a:pt x="345" y="279"/>
                  <a:pt x="314" y="262"/>
                  <a:pt x="314" y="262"/>
                </a:cubicBezTo>
                <a:cubicBezTo>
                  <a:pt x="278" y="298"/>
                  <a:pt x="284" y="323"/>
                  <a:pt x="299" y="371"/>
                </a:cubicBezTo>
                <a:cubicBezTo>
                  <a:pt x="306" y="429"/>
                  <a:pt x="328" y="467"/>
                  <a:pt x="285" y="510"/>
                </a:cubicBezTo>
                <a:cubicBezTo>
                  <a:pt x="282" y="517"/>
                  <a:pt x="285" y="532"/>
                  <a:pt x="277" y="532"/>
                </a:cubicBezTo>
                <a:cubicBezTo>
                  <a:pt x="268" y="532"/>
                  <a:pt x="268" y="517"/>
                  <a:pt x="263" y="510"/>
                </a:cubicBezTo>
                <a:cubicBezTo>
                  <a:pt x="243" y="481"/>
                  <a:pt x="230" y="469"/>
                  <a:pt x="197" y="459"/>
                </a:cubicBezTo>
                <a:cubicBezTo>
                  <a:pt x="187" y="428"/>
                  <a:pt x="169" y="425"/>
                  <a:pt x="139" y="415"/>
                </a:cubicBezTo>
                <a:cubicBezTo>
                  <a:pt x="99" y="384"/>
                  <a:pt x="54" y="389"/>
                  <a:pt x="8" y="371"/>
                </a:cubicBezTo>
                <a:cubicBezTo>
                  <a:pt x="19" y="315"/>
                  <a:pt x="6" y="344"/>
                  <a:pt x="59" y="291"/>
                </a:cubicBezTo>
                <a:cubicBezTo>
                  <a:pt x="71" y="279"/>
                  <a:pt x="88" y="247"/>
                  <a:pt x="88" y="247"/>
                </a:cubicBezTo>
                <a:cubicBezTo>
                  <a:pt x="121" y="149"/>
                  <a:pt x="69" y="124"/>
                  <a:pt x="0" y="102"/>
                </a:cubicBezTo>
                <a:cubicBezTo>
                  <a:pt x="12" y="70"/>
                  <a:pt x="25" y="39"/>
                  <a:pt x="37" y="7"/>
                </a:cubicBezTo>
                <a:cubicBezTo>
                  <a:pt x="66" y="36"/>
                  <a:pt x="59" y="39"/>
                  <a:pt x="59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3657600"/>
            <a:ext cx="162000" cy="495360"/>
          </a:xfrm>
          <a:custGeom>
            <a:avLst/>
            <a:gdLst/>
            <a:ahLst/>
            <a:rect l="l" t="t" r="r" b="b"/>
            <a:pathLst>
              <a:path w="102" h="312">
                <a:moveTo>
                  <a:pt x="77" y="0"/>
                </a:moveTo>
                <a:cubicBezTo>
                  <a:pt x="68" y="37"/>
                  <a:pt x="43" y="67"/>
                  <a:pt x="11" y="87"/>
                </a:cubicBezTo>
                <a:cubicBezTo>
                  <a:pt x="0" y="123"/>
                  <a:pt x="13" y="151"/>
                  <a:pt x="33" y="182"/>
                </a:cubicBezTo>
                <a:cubicBezTo>
                  <a:pt x="27" y="215"/>
                  <a:pt x="14" y="231"/>
                  <a:pt x="4" y="262"/>
                </a:cubicBezTo>
                <a:cubicBezTo>
                  <a:pt x="16" y="312"/>
                  <a:pt x="19" y="293"/>
                  <a:pt x="55" y="270"/>
                </a:cubicBezTo>
                <a:cubicBezTo>
                  <a:pt x="66" y="166"/>
                  <a:pt x="102" y="109"/>
                  <a:pt x="77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ubChord"/>
          <p:cNvSpPr/>
          <p:nvPr/>
        </p:nvSpPr>
        <p:spPr>
          <a:xfrm rot="2853600">
            <a:off x="6984360" y="353124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ubChord"/>
          <p:cNvSpPr/>
          <p:nvPr/>
        </p:nvSpPr>
        <p:spPr>
          <a:xfrm rot="13844400">
            <a:off x="6984000" y="353088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3200400"/>
            <a:ext cx="2361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029200" y="411444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3657600"/>
            <a:ext cx="763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8241800">
            <a:off x="5208120" y="4240440"/>
            <a:ext cx="973080" cy="263520"/>
          </a:xfrm>
          <a:prstGeom prst="rightArrow">
            <a:avLst>
              <a:gd name="adj1" fmla="val 50000"/>
              <a:gd name="adj2" fmla="val 92316"/>
            </a:avLst>
          </a:prstGeom>
          <a:solidFill>
            <a:srgbClr val="cf86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724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um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65160" y="1905120"/>
            <a:ext cx="25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penum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408000">
            <a:off x="5741280" y="2869200"/>
            <a:ext cx="1277640" cy="263520"/>
          </a:xfrm>
          <a:prstGeom prst="rightArrow">
            <a:avLst>
              <a:gd name="adj1" fmla="val 50000"/>
              <a:gd name="adj2" fmla="val 121209"/>
            </a:avLst>
          </a:prstGeom>
          <a:solidFill>
            <a:srgbClr val="cf86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3429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69080" y="3505320"/>
            <a:ext cx="13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00960" y="266688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91440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nar Ecli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becky</cp:lastModifiedBy>
  <dcterms:modified xsi:type="dcterms:W3CDTF">2009-03-25T02:16:45Z</dcterms:modified>
  <cp:revision>86</cp:revision>
  <dc:subject/>
  <dc:title>Slide 1</dc:title>
</cp:coreProperties>
</file>