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4F1-0BE4-4DE8-A0FF-4B88CEFD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A90-D0E3-4BE0-BC20-34B9F2CA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3BB-0C27-4D84-A2D9-A1B04EC9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0FE-7B77-4C0F-AE9F-A906A6B0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37B-5DA7-4118-8DDD-71ADC33C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25F-0C91-4DF3-ABEA-37B15B65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42A-7216-4E67-B94A-7AE38A16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C61-1A2F-4B26-9FDD-9C0D78B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27B-28DC-4EEA-9F1A-6FFDDB13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A02-98F6-41A3-A660-D2460602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E90-81B2-41A2-809E-0B291925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BEC-C8C4-403C-9F9E-35F100EE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E086-1797-4D09-ABA5-5C16D2A38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8080"/>
                </a:solidFill>
                <a:latin typeface="Cooper Black"/>
              </a:rPr>
              <a:t>Total Eclipse</a:t>
            </a: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808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114800" y="5105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lips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27558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51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type of ec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shadows labeled A and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0" y="6346800"/>
            <a:ext cx="38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from http://www.geocities.com/zimastro/images/eclipse2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4724280" cy="64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2514600"/>
            <a:ext cx="312408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971800"/>
            <a:ext cx="12189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4724280"/>
            <a:ext cx="14475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260200">
            <a:off x="2133360" y="4952880"/>
            <a:ext cx="1600200" cy="304920"/>
          </a:xfrm>
          <a:prstGeom prst="leftArrow">
            <a:avLst>
              <a:gd name="adj1" fmla="val 50000"/>
              <a:gd name="adj2" fmla="val 131198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760600">
            <a:off x="2895840" y="342900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438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2438280"/>
            <a:ext cx="381240" cy="120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3080" y="5486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answers are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0" y="6346800"/>
            <a:ext cx="38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from http://www.geocities.com/zimastro/images/eclipse2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447920"/>
            <a:ext cx="4724280" cy="64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286000"/>
            <a:ext cx="312408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971800"/>
            <a:ext cx="12189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4724280"/>
            <a:ext cx="14475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260200">
            <a:off x="2033280" y="4791240"/>
            <a:ext cx="1600200" cy="304560"/>
          </a:xfrm>
          <a:prstGeom prst="leftArrow">
            <a:avLst>
              <a:gd name="adj1" fmla="val 50000"/>
              <a:gd name="adj2" fmla="val 131353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760600">
            <a:off x="2971440" y="33526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2438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438280"/>
            <a:ext cx="381240" cy="120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6760" y="5111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24T17:33:23Z</dcterms:modified>
  <cp:revision>82</cp:revision>
  <dc:subject/>
  <dc:title>Slide 1</dc:title>
</cp:coreProperties>
</file>