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7B9-6502-41DF-947E-69DABA6D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136-325E-4BB7-BD6E-F7BAAB4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F06-4176-4B10-8A53-1F790CBE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811-FF47-4A5D-87F3-08351E0F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476-CFC3-44FF-9B2F-E8580FC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257-7A61-45BC-8980-D2D46A7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382E-1457-44D1-8F50-8986B523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7B53-51CC-4968-AA70-78C90092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51B-3619-4FD4-9F8E-205A65EE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268-142A-4FDE-AA0E-3851A79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244-093A-4DAA-9C9A-645BAC11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514-0E23-4A33-9EF0-1D049252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3E42-FEB2-47A9-93A9-A137E06EF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8080"/>
                </a:solidFill>
                <a:latin typeface="Cooper Black"/>
              </a:rPr>
              <a:t>Total Eclipse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808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275580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51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type of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shadows labeled A and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0" y="6346800"/>
            <a:ext cx="38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http://www.geocities.com/zimastro/images/eclipse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600200"/>
            <a:ext cx="4724280" cy="64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2514600"/>
            <a:ext cx="312408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971800"/>
            <a:ext cx="12189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724280"/>
            <a:ext cx="14475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260200">
            <a:off x="2133360" y="4952880"/>
            <a:ext cx="1600200" cy="304920"/>
          </a:xfrm>
          <a:prstGeom prst="leftArrow">
            <a:avLst>
              <a:gd name="adj1" fmla="val 50000"/>
              <a:gd name="adj2" fmla="val 131198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760600">
            <a:off x="2895840" y="342900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438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2438280"/>
            <a:ext cx="381240" cy="120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308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answers are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0" y="6346800"/>
            <a:ext cx="38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 from http://www.geocities.com/zimastro/images/eclipse2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447920"/>
            <a:ext cx="4724280" cy="64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286000"/>
            <a:ext cx="312408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971800"/>
            <a:ext cx="12189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4724280"/>
            <a:ext cx="1447560" cy="57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260200">
            <a:off x="2033280" y="4791240"/>
            <a:ext cx="1600200" cy="304560"/>
          </a:xfrm>
          <a:prstGeom prst="leftArrow">
            <a:avLst>
              <a:gd name="adj1" fmla="val 50000"/>
              <a:gd name="adj2" fmla="val 131353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760600">
            <a:off x="2971440" y="33526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2438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438280"/>
            <a:ext cx="381240" cy="120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6760" y="5111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24T17:33:23Z</dcterms:modified>
  <cp:revision>82</cp:revision>
  <dc:subject/>
  <dc:title>Slide 1</dc:title>
</cp:coreProperties>
</file>