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0A5-D37E-4A7F-A6A2-9954EE2C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083-0F8C-4E64-A24D-7AEB3380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A0E-D532-41CE-8BFC-F4EA6092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00D-8F4E-417E-882C-FB0B15ED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FE4-F011-4058-A4BA-C742F45D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F5A-1984-4603-AA54-F3CA65E9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7E1-2D81-4032-98E8-3C055389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895-45F4-4872-A00E-D69BF20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DC9-9E50-4CD1-A9BA-630F6881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7A6-78CA-452A-B08B-60B404AC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6A0-CE5C-4589-AD03-75A82D3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F5B-6763-4132-812A-613E307B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DF46-C54B-4564-9C1A-D5EAD8DAE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Full Tilt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in Spac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09680" y="4419720"/>
            <a:ext cx="16369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which of the following are  direct and/or indirect rays of sunlight and discuss how they effect the Ear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421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0040" y="6477120"/>
            <a:ext cx="600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ag.arizona.edu/watershedsteward//resources/module/Climate/images/indirect_ray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8000" y="4038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8718800">
            <a:off x="2717280" y="2768760"/>
            <a:ext cx="509400" cy="152640"/>
          </a:xfrm>
          <a:prstGeom prst="leftArrow">
            <a:avLst>
              <a:gd name="adj1" fmla="val 50000"/>
              <a:gd name="adj2" fmla="val 8343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241400">
            <a:off x="3352680" y="4114800"/>
            <a:ext cx="621000" cy="179280"/>
          </a:xfrm>
          <a:prstGeom prst="leftArrow">
            <a:avLst>
              <a:gd name="adj1" fmla="val 50000"/>
              <a:gd name="adj2" fmla="val 8659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10080" cy="290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5118120"/>
            <a:ext cx="861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rect s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same amount of energy but a greater concentration over a smaller 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718800">
            <a:off x="3097800" y="2540520"/>
            <a:ext cx="509400" cy="152280"/>
          </a:xfrm>
          <a:prstGeom prst="leftArrow">
            <a:avLst>
              <a:gd name="adj1" fmla="val 50000"/>
              <a:gd name="adj2" fmla="val 836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241400">
            <a:off x="3505320" y="3657600"/>
            <a:ext cx="620640" cy="179280"/>
          </a:xfrm>
          <a:prstGeom prst="leftArrow">
            <a:avLst>
              <a:gd name="adj1" fmla="val 50000"/>
              <a:gd name="adj2" fmla="val 865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049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dire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same amount of energy spread over a larger area of the earth therefore it is not as in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1T18:51:41Z</dcterms:modified>
  <cp:revision>65</cp:revision>
  <dc:subject/>
  <dc:title>Slide 1</dc:title>
</cp:coreProperties>
</file>