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2668-7093-4040-8C1C-6AF8D5E5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D490-2CDB-4217-ABF4-968B8A3D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C951-B173-4A84-A9E7-DD28E018E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C023-4848-498E-9C90-BBF1EA123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D66C-0C27-489C-AC40-092FC396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6F4D-0F5A-4404-B022-B677D908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D86D-3E58-4F9C-B160-59C2B974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8425-8267-4E19-86A8-0E23809C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95D2-7053-445C-9217-2C0D9418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95DE-8E33-4A29-93DD-0566786A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F074-5C63-435C-A75C-CF0CB301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2586-B1C1-4E27-BF74-1472DEF7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86EE-873A-4C4B-9B3A-EC1D786C0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85800" y="1447920"/>
            <a:ext cx="75438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Full Tilt</a:t>
            </a: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505320" y="5043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rth in Space #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04920" y="632448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R. Bryant 2008 WSMS – Based on “Science Starters” by T. Trimpe at http://sciencespot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cistartlogo2"/>
          <p:cNvPicPr/>
          <p:nvPr/>
        </p:nvPicPr>
        <p:blipFill>
          <a:blip r:embed="rId1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09680" y="4419720"/>
            <a:ext cx="1636920" cy="18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e which of the following are  direct and/or indirect rays of sunlight and discuss how they effect the Eart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848720" cy="4218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0040" y="6477120"/>
            <a:ext cx="600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ag.arizona.edu/watershedsteward//resources/module/Climate/images/indirect_rays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2209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88000" y="40384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8718800">
            <a:off x="2717280" y="2768760"/>
            <a:ext cx="509400" cy="152640"/>
          </a:xfrm>
          <a:prstGeom prst="leftArrow">
            <a:avLst>
              <a:gd name="adj1" fmla="val 50000"/>
              <a:gd name="adj2" fmla="val 8343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241400">
            <a:off x="3352680" y="4114800"/>
            <a:ext cx="621000" cy="179280"/>
          </a:xfrm>
          <a:prstGeom prst="leftArrow">
            <a:avLst>
              <a:gd name="adj1" fmla="val 50000"/>
              <a:gd name="adj2" fmla="val 8659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410080" cy="2908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5118120"/>
            <a:ext cx="8610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irect su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same amount of energy but a greater concentration over a smaller ar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2209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8718800">
            <a:off x="3097800" y="2540520"/>
            <a:ext cx="509400" cy="152280"/>
          </a:xfrm>
          <a:prstGeom prst="leftArrow">
            <a:avLst>
              <a:gd name="adj1" fmla="val 50000"/>
              <a:gd name="adj2" fmla="val 836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86200" y="3886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241400">
            <a:off x="3505320" y="3657600"/>
            <a:ext cx="620640" cy="179280"/>
          </a:xfrm>
          <a:prstGeom prst="leftArrow">
            <a:avLst>
              <a:gd name="adj1" fmla="val 50000"/>
              <a:gd name="adj2" fmla="val 8654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0492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ndirec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same amount of energy spread over a larger area of the earth therefore it is not as inte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; Becky Bryant</dc:creator>
  <dc:description/>
  <dc:language>en-US</dc:language>
  <cp:lastModifiedBy>*</cp:lastModifiedBy>
  <dcterms:modified xsi:type="dcterms:W3CDTF">2009-03-11T18:51:41Z</dcterms:modified>
  <cp:revision>65</cp:revision>
  <dc:subject/>
  <dc:title>Slide 1</dc:title>
</cp:coreProperties>
</file>