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BF8-3CCF-4129-A013-BBB5B57C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BFEA-6382-4AD1-95D7-F2EF12DD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5882-C8E5-4116-8440-C5A9C799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F15B-CB54-41C3-AF4D-80151301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9604-805F-4C46-8899-20558CCC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C56-6C2E-4B09-98FF-A9CFFE7D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B33E-54C3-4E0C-A920-1F0BEB8A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F2E-C0CC-4FBD-8C05-89704F79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304-A2EE-4D8A-8F44-9AC82AFB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47F5-F34E-4D57-9F93-89A45152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B16B-4B1C-4237-BB68-4BEA560A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4252-609F-4CB8-B6D8-6B023B57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0887-8F13-4806-BEE5-8638368A7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04920" y="838080"/>
            <a:ext cx="85341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66ff"/>
                  </a:solidFill>
                  <a:miter/>
                </a:ln>
                <a:solidFill>
                  <a:srgbClr val="ff9966"/>
                </a:solidFill>
                <a:latin typeface="Cooper Black"/>
              </a:rPr>
              <a:t>Reason for the Seasons II</a:t>
            </a:r>
            <a:endParaRPr b="0" lang="en-US" sz="1800" spc="1" strike="noStrike">
              <a:ln w="38160">
                <a:solidFill>
                  <a:srgbClr val="0066ff"/>
                </a:solidFill>
                <a:miter/>
              </a:ln>
              <a:solidFill>
                <a:srgbClr val="ff9966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th in Space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33720" y="4419720"/>
            <a:ext cx="181296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20570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be the amount of day and night that occurs on each ev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20574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nal Equin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638680" y="1828800"/>
            <a:ext cx="1060560" cy="1143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79760" y="4343400"/>
            <a:ext cx="42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umnal Equin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1067040" cy="101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77600" y="3200400"/>
            <a:ext cx="38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er Sols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638680" y="3200400"/>
            <a:ext cx="838440" cy="909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78680" y="563868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nter Sols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334120" y="5486400"/>
            <a:ext cx="90468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15379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nswers are 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4479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Vernal equino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equal amount of  day and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505320" y="1981080"/>
            <a:ext cx="777600" cy="838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39625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utumnal equino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equal amount of day and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62520" y="4572000"/>
            <a:ext cx="914400" cy="86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" y="2743200"/>
            <a:ext cx="869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ummer Solsti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longer amount of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n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701640" cy="761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6720" y="5257800"/>
            <a:ext cx="769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nter Solstic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shorter amount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y than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581280" y="5791320"/>
            <a:ext cx="9050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3-11T14:36:17Z</dcterms:modified>
  <cp:revision>58</cp:revision>
  <dc:subject/>
  <dc:title>Slide 1</dc:title>
</cp:coreProperties>
</file>