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C72C-F986-4B74-8A8B-B1AB40A0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9A40-E806-474B-8B21-7FF57DC1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6943-7A91-400A-BCFB-17EBCA91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3E6B-C704-447E-A3F8-AEE0EF6F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617-8E65-4F50-ACD3-26CD3222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B963-4554-4E1A-956D-CB572BFC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ED8-D5F8-420B-95B2-FE5AA57C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5D9-4762-4F70-803F-40B67B27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759-CCD6-4D18-A57E-0DF57A51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03F2-9FB9-4A82-8115-E27EC71E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962-55D8-47B5-A1DE-D668AB40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AD3-1B01-4305-B67F-145491A9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970F-35F2-467C-AF56-B369F9A42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4920" y="838080"/>
            <a:ext cx="85341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66ff"/>
                  </a:solidFill>
                  <a:miter/>
                </a:ln>
                <a:solidFill>
                  <a:srgbClr val="ff9966"/>
                </a:solidFill>
                <a:latin typeface="Cooper Black"/>
              </a:rPr>
              <a:t>Reason for the Seasons II</a:t>
            </a:r>
            <a:endParaRPr b="0" lang="en-US" sz="1800" spc="1" strike="noStrike">
              <a:ln w="38160">
                <a:solidFill>
                  <a:srgbClr val="0066ff"/>
                </a:solidFill>
                <a:miter/>
              </a:ln>
              <a:solidFill>
                <a:srgbClr val="ff9966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th in Space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33720" y="4419720"/>
            <a:ext cx="181296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20570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be the amount of day and night that occurs on each ev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2057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nal Equin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638680" y="1828800"/>
            <a:ext cx="1060560" cy="1143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79760" y="4343400"/>
            <a:ext cx="42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umnal Equin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1067040" cy="101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77600" y="3200400"/>
            <a:ext cx="38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er Sols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638680" y="3200400"/>
            <a:ext cx="838440" cy="909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78680" y="563868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nter Sols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334120" y="5486400"/>
            <a:ext cx="90468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15379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nswers are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4479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Vernal equino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equal amount of  day and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05320" y="1981080"/>
            <a:ext cx="777600" cy="838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39625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utumnal equino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equal amount of day and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62520" y="457200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" y="2743200"/>
            <a:ext cx="869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ummer Solsti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longer amount of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n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701640" cy="761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6720" y="5257800"/>
            <a:ext cx="76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nter Solstic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shorter amount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y than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581280" y="5791320"/>
            <a:ext cx="9050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11T14:36:17Z</dcterms:modified>
  <cp:revision>58</cp:revision>
  <dc:subject/>
  <dc:title>Slide 1</dc:title>
</cp:coreProperties>
</file>