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E78-63F0-48F6-A73A-0BD20EB4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746-DCE8-4AEE-89DD-5859CE05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AED-B038-44A3-AE00-767CB26C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BF1-0F13-42B6-AB17-7C6CDF2F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FBC-E0B5-4073-A57B-34537F8F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93D-5BE2-43C5-BAF7-8E39EB15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8ED-DFD4-496C-8595-606E8A7C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56A1-62DA-498A-9853-610A1A5B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4AD-8DA1-4A2C-9466-2604C6E3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8E1-560F-4F78-A5B4-B961765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FF9-61E7-48D3-8F2D-B065E52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D96-3BC9-4D96-809B-0428A50E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20DD-260F-4753-A5CC-FF4A2E3CB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Reason for the Seasons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the season in the northern and southern hemisphe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44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14600" y="297180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581280"/>
            <a:ext cx="60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4267080"/>
            <a:ext cx="6094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3581280"/>
            <a:ext cx="60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08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44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376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07000" y="3279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11560" y="4727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960" y="40417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31560" y="53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4876920"/>
            <a:ext cx="5762520" cy="1361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41520" y="6400800"/>
            <a:ext cx="326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uwm.edu/~kahl/CoVis/Seasons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924680" y="190512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1880" y="2133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581280"/>
            <a:ext cx="9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981080"/>
            <a:ext cx="1067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066680" y="2286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3429000"/>
            <a:ext cx="1067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10480" y="3048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44792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352680" y="1752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89548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705360" y="3200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259092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19520" y="2437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962520"/>
            <a:ext cx="9903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943600" y="3885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swers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4:39:05Z</dcterms:modified>
  <cp:revision>55</cp:revision>
  <dc:subject/>
  <dc:title>Slide 1</dc:title>
</cp:coreProperties>
</file>