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240-7ED9-4BFF-A2C6-0668EE4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9B4-7CF2-4196-8FD5-EABBA445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A64-5015-47F6-876C-40144D74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E21-5103-4B8E-9F2F-109F98F4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2F4-DD3D-4CC0-AF8B-EA08C94D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0B4-A2CF-4E65-81DA-CA5C3CD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3EA-827A-432A-AD21-5E1A5CA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F94-2749-495B-8551-9F26A10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EE0-E38F-41DA-A7CE-A414842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653-376F-4E12-AB6C-7DD6ADE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22C-8E90-4405-9EDD-F0C339E5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0F5-FBF6-446A-840B-3F47ADB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7779-6D06-44AF-BF2A-8ADC93D6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Reason for the Seasons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the season in the northern and southern hemisp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4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297180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581280"/>
            <a:ext cx="60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26708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3581280"/>
            <a:ext cx="60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08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376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7000" y="3279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11560" y="472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960" y="40417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31560" y="53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4876920"/>
            <a:ext cx="5762520" cy="1361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41520" y="6400800"/>
            <a:ext cx="32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uwm.edu/~kahl/CoVis/Season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24680" y="190512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1880" y="213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58128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981080"/>
            <a:ext cx="1067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066680" y="2286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3429000"/>
            <a:ext cx="1067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1048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44792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352680" y="1752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89548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053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59092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962520"/>
            <a:ext cx="990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943600" y="3885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sw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39:05Z</dcterms:modified>
  <cp:revision>55</cp:revision>
  <dc:subject/>
  <dc:title>Slide 1</dc:title>
</cp:coreProperties>
</file>