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6F3-F00D-4283-A04D-2745067D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635-2DBC-4E0E-BDA8-0343A13C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5B8-5936-402E-8494-AF8189F9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3B1-5903-4ACB-AE67-9622E6CB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D2A-AD6B-44A3-80C5-AFCE5F2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A90-54D1-449F-BCEF-D3DFFE93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15C-8811-43A3-9F82-FCE2F2CC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A66-ABB8-43E2-84E9-E63BBE50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A43-1AD7-41C6-8CE7-58EF6A2B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AB7-273B-4CB3-B6B1-7513DE49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529-3D1E-4C66-BA05-EF91ECF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D06-DE02-4513-A323-6A3740DA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A4FE-017E-4F16-B282-EC6DCC16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838080"/>
            <a:ext cx="8534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66ff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Spin Round and Round</a:t>
            </a:r>
            <a:endParaRPr b="0" lang="en-US" sz="1800" spc="1" strike="noStrike">
              <a:ln w="38160">
                <a:solidFill>
                  <a:srgbClr val="0066ff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in Spac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947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e the following terms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438280"/>
            <a:ext cx="4952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t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3048120"/>
            <a:ext cx="24415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the spinning motion of a planet about its ax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2057400" cy="1900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2096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vol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the movement of an object around another obj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05720" y="3429000"/>
            <a:ext cx="2259000" cy="226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08636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rbi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the path                        of an object as it revolves around another object in sp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1148800">
            <a:off x="3727440" y="4105440"/>
            <a:ext cx="3433680" cy="304560"/>
          </a:xfrm>
          <a:prstGeom prst="rightArrow">
            <a:avLst>
              <a:gd name="adj1" fmla="val 50000"/>
              <a:gd name="adj2" fmla="val 2818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1T14:47:22Z</dcterms:modified>
  <cp:revision>47</cp:revision>
  <dc:subject/>
  <dc:title>Slide 1</dc:title>
</cp:coreProperties>
</file>