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media/image4.gif" ContentType="image/gi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570F-F1B5-433E-A5DF-C1AA733DF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EE30-9744-466A-9D8A-0F9A26CFD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4961-ED8C-4356-BC26-4A40BA27A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DC17-799A-4C96-BCF8-631BF107C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D083-6F25-4178-8DA1-B7E001BB7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5494-A9BB-459C-B9C6-9A2FF0528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6498-162D-4CEC-B720-6B3D1504B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E24B-9DCE-42DA-83F7-5B429DCD9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909A-F3F1-4029-8625-1027CB278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95AA-44CF-43A4-9A91-02E96516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3B5B-FF31-4FD9-897E-CBFB355E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DDB5-BDC4-4DEA-B64E-6D98A205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7E125-FFAC-465C-8AD5-BDDFBE02A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304920" y="838080"/>
            <a:ext cx="853416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66ff"/>
                  </a:solidFill>
                  <a:miter/>
                </a:ln>
                <a:solidFill>
                  <a:srgbClr val="99cc00"/>
                </a:solidFill>
                <a:latin typeface="Cooper Black"/>
              </a:rPr>
              <a:t>Spin Round and Round</a:t>
            </a:r>
            <a:endParaRPr b="0" lang="en-US" sz="1800" spc="1" strike="noStrike">
              <a:ln w="38160">
                <a:solidFill>
                  <a:srgbClr val="0066ff"/>
                </a:solidFill>
                <a:miter/>
              </a:ln>
              <a:solidFill>
                <a:srgbClr val="99cc00"/>
              </a:solidFill>
              <a:latin typeface="Cooper Black"/>
              <a:ea typeface="Cooper Black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3505320" y="504360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arth in Space #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304920" y="6324480"/>
            <a:ext cx="883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R. Bryant 2008 WSMS – Based on “Science Starters” by T. Trimpe at http://sciencespot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cistartlogo2"/>
          <p:cNvPicPr/>
          <p:nvPr/>
        </p:nvPicPr>
        <p:blipFill>
          <a:blip r:embed="rId1"/>
          <a:stretch/>
        </p:blipFill>
        <p:spPr>
          <a:xfrm>
            <a:off x="6095880" y="152280"/>
            <a:ext cx="2686320" cy="505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905120" y="3733920"/>
            <a:ext cx="236196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59"/>
          <p:cNvSpPr/>
          <p:nvPr/>
        </p:nvSpPr>
        <p:spPr>
          <a:xfrm>
            <a:off x="6918480" y="1179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947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fine the following terms. .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47920" y="2438280"/>
            <a:ext cx="495288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otatio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volu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rbi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562720" y="3048120"/>
            <a:ext cx="2441520" cy="24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9"/>
          <p:cNvSpPr/>
          <p:nvPr/>
        </p:nvSpPr>
        <p:spPr>
          <a:xfrm>
            <a:off x="6918480" y="1179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04920"/>
            <a:ext cx="6705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Rot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the spinning motion of a planet about its axi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0" y="380880"/>
            <a:ext cx="2057400" cy="1900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2209680"/>
            <a:ext cx="7162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Revolu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the movement of an object around another objec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705720" y="3429000"/>
            <a:ext cx="2259000" cy="2268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4086360"/>
            <a:ext cx="7543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Orbit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– the path                        of an object as it revolves around another object in spac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21148800">
            <a:off x="3727440" y="4105440"/>
            <a:ext cx="3433680" cy="304560"/>
          </a:xfrm>
          <a:prstGeom prst="rightArrow">
            <a:avLst>
              <a:gd name="adj1" fmla="val 50000"/>
              <a:gd name="adj2" fmla="val 28185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; Becky Bryant</dc:creator>
  <dc:description/>
  <dc:language>en-US</dc:language>
  <cp:lastModifiedBy>*</cp:lastModifiedBy>
  <dcterms:modified xsi:type="dcterms:W3CDTF">2009-03-11T14:47:22Z</dcterms:modified>
  <cp:revision>47</cp:revision>
  <dc:subject/>
  <dc:title>Slide 1</dc:title>
</cp:coreProperties>
</file>