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4C4-C0D1-44BC-8CE6-CA831D51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9E4-1588-4DBF-8636-D75CDC51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3F5-B892-4EC1-863E-74E569CF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627-DB08-40FF-9E56-07BBEEA2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5B9-0650-41AB-9D34-EE361038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8E0-D36D-4C7B-AC7C-5F95F984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5A8-6772-4D87-A189-A16F62ED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9AC-0199-48B7-9129-ECD1E6D2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B26-AF7A-4A1F-AA9B-4B8A70D9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7B2-B02C-441E-AAA0-02406243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D27-C27E-42DE-B34B-F86E66B8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81A-B520-4648-86BE-3CEF9137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443E-A74F-42CD-BC7E-341311621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sity 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85800"/>
            <a:ext cx="8763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Sink or Float?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4114800"/>
            <a:ext cx="2286000" cy="210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90520" y="6400800"/>
            <a:ext cx="74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density of the object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94028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as dropped into a graduated cylinder that contained 40 mL. Determine the volume of tha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18288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 was placed on a triple beam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7162920" y="2286000"/>
            <a:ext cx="83808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572000" cy="339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733920" cy="3924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4419720"/>
            <a:ext cx="6094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403848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343400"/>
            <a:ext cx="304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4952880"/>
            <a:ext cx="460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36920" y="6613560"/>
            <a:ext cx="390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edinformatics.com/math_science/mas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1080"/>
            <a:ext cx="9144000" cy="9471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lut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8915400" cy="69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olume = Volume of water &amp; object – volume of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65 mL – 4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25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 25.4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ity = M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25.4 g ÷ 25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.01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* The object will sin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81680" y="4965840"/>
            <a:ext cx="20574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2T00:15:41Z</dcterms:modified>
  <cp:revision>35</cp:revision>
  <dc:subject/>
  <dc:title>Slide 1</dc:title>
</cp:coreProperties>
</file>