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519-1E6D-45F4-87CE-EC208B32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136-347E-4DD3-9325-B9B8451B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66B-FC15-4011-944F-321B5553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F00-7798-4CCE-8757-4FB82008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2E5-551E-456F-8480-B15448B9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229-80DF-4A33-A812-96AB5905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C2F-8E76-4C84-B521-BFD44C62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CA1-6EFE-4642-BEF4-99C7A128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DEE-5787-4122-B553-E96589FB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59F-4D6F-429C-8F64-628B0521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E1E-04E1-49C6-9020-B8EDD50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C66-BB6E-481E-BDC2-D5BE8419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75EE-4BBC-4615-827A-4E1CF8021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sity 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85800"/>
            <a:ext cx="87631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Sink or Float?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4114800"/>
            <a:ext cx="2286000" cy="210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90520" y="6400800"/>
            <a:ext cx="74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density of the object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9402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as dropped into a graduated cylinder that contained 40 mL. Determine the volume of tha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18288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 was placed on a triple beam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7162920" y="2286000"/>
            <a:ext cx="83808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3200400"/>
            <a:ext cx="4572000" cy="339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733920" cy="3924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4419720"/>
            <a:ext cx="6094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403848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343400"/>
            <a:ext cx="304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4952880"/>
            <a:ext cx="460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36920" y="6613560"/>
            <a:ext cx="390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edinformatics.com/math_science/mass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1080"/>
            <a:ext cx="9144000" cy="9471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lu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8915400" cy="69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lume = Volume of water &amp; object – volume of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65 mL – 4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25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25.4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= M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25.4 g ÷ 25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.01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* The object will si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781680" y="4965840"/>
            <a:ext cx="20574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2T00:15:41Z</dcterms:modified>
  <cp:revision>35</cp:revision>
  <dc:subject/>
  <dc:title>Slide 1</dc:title>
</cp:coreProperties>
</file>