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629-AE9C-44C1-955D-C0DC27F2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2FB-0409-49E7-B8AF-26E09971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525-B9B7-4E64-978F-A2EFC450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88B-306B-4767-A44F-312349A6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66B-AB9E-4FE4-B97B-F7AE779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2D2-B154-4E28-A98D-40A90E05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97A-D293-4300-8730-C3871A0A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297-DC51-4D3B-9AFD-F6D4AA28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0BD-DD83-4F8D-B255-045D9A0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698-F109-49C5-AD19-371FA4D6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1C2-1C2A-40F6-B137-87B0A380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FDD-2703-4C4C-837B-A2755E6A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01D7-1FE5-4AEC-A7EA-6920A940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7621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9900"/>
                  </a:solidFill>
                  <a:miter/>
                </a:ln>
                <a:solidFill>
                  <a:srgbClr val="9900ff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009900"/>
                </a:solidFill>
                <a:miter/>
              </a:ln>
              <a:solidFill>
                <a:srgbClr val="9900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3886200"/>
            <a:ext cx="1616040" cy="2590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392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720"/>
            <a:ext cx="914400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density of the object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7735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86400" y="15238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as dropped into a graduated cylinder that contained 20 mL. Determine the volume of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209680"/>
            <a:ext cx="1066680" cy="762120"/>
          </a:xfrm>
          <a:prstGeom prst="leftArrow">
            <a:avLst>
              <a:gd name="adj1" fmla="val 50000"/>
              <a:gd name="adj2" fmla="val 3499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3409920" cy="282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62320" y="44956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was placed on a triple bea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9528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4320" y="6629400"/>
            <a:ext cx="2091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from http://ritter.tea.state.tx.us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4160" y="6629400"/>
            <a:ext cx="2792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from http://genchem.rutgers.edu/bal3b2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53360"/>
            <a:ext cx="9144000" cy="1068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990720"/>
            <a:ext cx="89917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olume of water &amp; object – volume of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= 43 mL – 2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23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373.3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373.3 g ÷ 23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6.23 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477120" y="4579920"/>
            <a:ext cx="24764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23:56:02Z</dcterms:modified>
  <cp:revision>34</cp:revision>
  <dc:subject/>
  <dc:title>Slide 1</dc:title>
</cp:coreProperties>
</file>