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CE1-F25F-4174-B678-27D75F9E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CEB-5506-4CD0-906B-2065CC3F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7B3-146B-4DB1-9AD0-B1C024BF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194-90FE-47CF-95DC-920A94B4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212-D425-4018-B262-5CCEBD3F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63C-DBEF-40FD-9839-076DE047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50B-E1AE-4E08-AFB4-8B9BF17D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8D8-732D-48AB-A7B7-DB3DE14D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7FE-B2A3-490D-8D3A-14BF8955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DCE-5B6C-4215-8FF2-2CC11DC5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B98-B979-49E5-B4A2-9FB63C2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882-12BA-46F6-8FFA-BE83E39E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0939-069F-4529-9FE8-56E3A0A4C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sity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7621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99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ink or Float?</a:t>
            </a:r>
            <a:endParaRPr b="0" lang="en-US" sz="1800" spc="1" strike="noStrike">
              <a:ln w="38160">
                <a:solidFill>
                  <a:srgbClr val="0099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161604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920" y="65214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720"/>
            <a:ext cx="914400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density of the object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7735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15238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as dropped into a graduated cylinder that contained 20 mL. Determine the volume of tha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209680"/>
            <a:ext cx="1066680" cy="762120"/>
          </a:xfrm>
          <a:prstGeom prst="leftArrow">
            <a:avLst>
              <a:gd name="adj1" fmla="val 50000"/>
              <a:gd name="adj2" fmla="val 349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86400" y="3581280"/>
            <a:ext cx="3409920" cy="282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62320" y="449568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was placed on a triple bea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9528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4320" y="6629400"/>
            <a:ext cx="209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from http://ritter.tea.state.tx.us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4160" y="6629400"/>
            <a:ext cx="279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from http://genchem.rutgers.edu/bal3b2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153360"/>
            <a:ext cx="9144000" cy="1068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990720"/>
            <a:ext cx="89917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lume of water &amp; object – volume of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= 43 mL – 2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23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373.3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= M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373.3 g ÷ 23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6.23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77120" y="4579920"/>
            <a:ext cx="24764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23:56:02Z</dcterms:modified>
  <cp:revision>34</cp:revision>
  <dc:subject/>
  <dc:title>Slide 1</dc:title>
</cp:coreProperties>
</file>