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6D5-1C35-4A13-B3A0-EF50B2D0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45F4-E790-4B04-A7F1-33A34F09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FCE-A8A9-40BE-8D74-CFCB52E9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53C-2927-4A29-9C81-B0D0CD5B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8D3-9595-47BB-8600-4C190F9D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78AE-4EA9-460A-B121-6A10D769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05A9-C5EC-4ED3-9DAB-E4A38AFF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6A8-5E81-443D-B159-549F5646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430-7F8A-4E99-B5EF-60C645CE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DFD-8B58-4CDA-8090-5948A840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C65-6E3D-4B59-BAE3-C93F3EF3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06F-313E-4DEC-880D-C07ED8B7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CF4C-9A12-47D4-B45B-99CB7EA72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sity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7621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66ccff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ink or Float?</a:t>
            </a:r>
            <a:endParaRPr b="0" lang="en-US" sz="1800" spc="1" strike="noStrike">
              <a:ln w="38160">
                <a:solidFill>
                  <a:srgbClr val="66ccff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4343400"/>
            <a:ext cx="1904760" cy="186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6200" y="6324480"/>
            <a:ext cx="83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360"/>
            <a:ext cx="9144000" cy="1557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nd the density of the box be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2057400"/>
            <a:ext cx="1828800" cy="3809880"/>
          </a:xfrm>
          <a:prstGeom prst="cube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5146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4038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.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6095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6095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8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257800" y="5486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57150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4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3048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-1080"/>
            <a:ext cx="9144000" cy="94716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oluti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990720"/>
            <a:ext cx="62485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me = length  x  width  x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23.5 cm  x 7.8 cm  x 6.4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1173.12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= 38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sity = Ma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386 g ÷ 1173.12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0.33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*The box would flo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22222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1T18:14:00Z</dcterms:modified>
  <cp:revision>33</cp:revision>
  <dc:subject/>
  <dc:title>Slide 1</dc:title>
</cp:coreProperties>
</file>