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8FE-01D5-469F-962E-4CB220C2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DC8-969C-48AC-A172-644F19D7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AD0-B941-40F4-83F5-58EB02E2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B28-9F79-4598-911E-9CCC56B1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AF5-0F35-429B-8E30-C13DD777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424-1D5C-4685-98C5-8C0D97A5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428-E63B-421E-8120-2E103175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E20-7D06-45FD-A64C-C1650F3B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547-D242-4052-A413-E14BA652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836-CA6C-4FD3-B844-5EF67B62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08D-DD06-4179-841E-0501215F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4C1-CA4A-4AB7-9C9A-E729FC8E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1AC8-FB38-4BA9-A961-AE00D2276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sity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7621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66ccff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ink or Float?</a:t>
            </a:r>
            <a:endParaRPr b="0" lang="en-US" sz="1800" spc="1" strike="noStrike">
              <a:ln w="38160">
                <a:solidFill>
                  <a:srgbClr val="66ccff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1904760" cy="186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6200" y="6324480"/>
            <a:ext cx="83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360"/>
            <a:ext cx="9144000" cy="155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nd the density of the box be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2057400"/>
            <a:ext cx="1828800" cy="3809880"/>
          </a:xfrm>
          <a:prstGeom prst="cube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5146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4038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.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6095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6095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8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257800" y="5486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57150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4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3048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1080"/>
            <a:ext cx="9144000" cy="9471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oluti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990720"/>
            <a:ext cx="62485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me = length  x  width  x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23.5 cm  x 7.8 cm  x 6.4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1173.12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= 38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ity = Ma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386 g ÷ 1173.12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0.33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*The box would flo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22222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1T18:14:00Z</dcterms:modified>
  <cp:revision>33</cp:revision>
  <dc:subject/>
  <dc:title>Slide 1</dc:title>
</cp:coreProperties>
</file>